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9DA4-8403-4575-BD11-79E71FC5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2809-0624-45E4-9106-3B7287AE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C2FF2-63A0-493A-AD89-56384786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9F1D2-2CF2-412D-ADD1-B323D561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DF235-091C-462E-930C-C683BEEC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ECB28-5323-467A-980D-4EF3300E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25A85-FE2E-4668-8475-E44BFAB0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EE418-C757-4AD9-8019-680BE948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E5EE9-6D59-4B65-A0F8-3DD1ECF0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D2098-A118-44D1-8C98-A6B3A48D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4EE7E-EAC4-40F5-A8C1-6AA87158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60AC0-904E-4D35-8F1B-0D41EA24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9CD8-1983-442A-9351-538B868B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E924F-DAE4-4776-BAA0-DAE2484B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DA528-05F8-46C5-A505-91E45203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F2407-0F56-4028-8FCB-8B37732D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22E2E-EB30-4A75-B67D-882DB5DE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40007-D499-4B3A-B520-8D283C41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8E319-1480-4ED9-8714-D5FFB4FF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CD6B7-27AB-4A0B-A2A3-B9D406EA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03B5C-EF64-4570-AC21-4798F23B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86F1D-E365-4808-BF6D-558DD999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1640B-F524-44B6-8E00-E4744C5D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F878-9DF9-48FF-B358-409A3989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24A98-479D-47FF-B91C-40540379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327A7-1EB5-4700-ADB9-291FDCD9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69253-5C3E-4612-82D2-C5EB0782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B0416-7009-4F60-8C40-D24EF3CE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FEBB8-A1E3-4241-81BC-1B545BCE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2B08E-B499-4E51-B5C0-2B0F7DB7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3A8CD-3B74-4419-B465-B6778596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7BFD8-E8D4-4104-A257-72AC57FA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AE199-492D-4478-8FEC-DA09A6AD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B1E60-5794-4A56-A97B-D7A6FB7B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7F45-FADC-44BF-A22C-3F9D6301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F54E4-F279-4A60-99E4-A0A37104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046E5-3B63-44E2-A6AC-4D88903D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10AE1-42CB-4D18-A831-B66D5560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0DB77-FA06-4FF8-B17E-E159C2D4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74E98-57F4-4813-8884-961C68C8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803B3-2C8B-4A82-B5BB-AA44828F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5E52A-C9E0-48C6-BBF6-827D8459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3E56F-A971-457E-AA68-92D951C9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402000-0295-4188-B3EC-99F00BEB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EEE76-7ECE-42F6-9ED1-70A956B3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6B25-2ADA-4293-847F-A329CBC3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0FC07-290D-41D8-801D-B86FF568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7D4D4-81E7-4D8A-BA71-2A69042F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A4C75-E6DB-4D84-8A8C-BC225239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2E48B-EF29-43D0-98DD-045795B44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465510-8A6A-420E-96C0-F1F5059F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618B46-892E-4DF0-8443-618EA8E5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6AE9BF-4B66-446C-B06C-40130FE0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76CC35-8B26-4551-AD60-7CDE30F9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23BAA7-B23E-4B04-AD47-FEC6001E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DE631C-9C72-483E-BD54-F00CF55A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F33A-4BBE-4EBA-A76C-2ED7971A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7DD261-0B92-496B-B576-161EE90A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9D5D66-85CC-4447-87E9-44CEAB2A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6F1848-4676-4869-A444-C63A2F25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81AE0-8012-4C15-9F7D-1C271546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E23AAB-2D4D-464F-855B-0F7C76A9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B1DFE1-2C94-4212-80EE-0E0F7355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A6237B-30DB-44AF-AD5F-1037C2E3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9BE20F-83CB-45C9-8A47-1D850099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BCCF29-AF03-412D-95C4-DCB0F6F5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628188-56EB-403C-9487-4AC8A4B3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1F02-C481-4F09-BC54-325390CF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651F1C-8A06-4281-BA8E-D3D277DA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231AA6-63C3-4472-B363-52FC0CBE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392D8E-B776-4B15-AD1E-80A00965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810689-B9C2-4D05-8968-9653A8B9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7C7896-D04F-432E-B5BA-8CB298CD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CC9547-B98C-4093-81C7-A07E9040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A82822-B750-40DA-91DD-33D2A7B5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3FBD44-54A1-4F78-B569-97E20193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55224E-7A29-458B-BE46-33F2948D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C371D2-EB76-487B-925A-40BD9BB6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B1AE-0036-4E78-B209-9C3320B5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6EE6B5-CE1C-4235-A077-8329A218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0D858A-998A-4D58-BD5E-57879745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CC4540-FBA0-4303-8E50-CC543F9A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576B1B-E01E-444D-AB32-D153C8E6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954C3E-B27F-48DC-8015-CECAC00C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D0AFBF-2D24-4569-91BE-255053FF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924253-81BB-4FAD-BD0E-DF3EA538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0B33D8-AB7A-4FB2-B711-05C8B549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F2C395-9A54-4349-8113-72FB83A9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BEFE28-7EDF-4507-8961-2CE992C6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E24B-C482-4CC1-AFE2-E8D894FA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65AF57-8171-4E18-831A-B95782A5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3957A0-D09E-4CD0-94FB-E3418C52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7B99F6-F726-4516-8FA3-9DD98A65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4C8E26-F672-4AB0-B663-4BF4352F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233D79-C657-49D0-8F58-2AF5B717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B0B20C-7FE7-4395-99A6-18DB59E2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4E5C24-AE87-4502-876F-4ADCAD64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DDA588-DDC4-4A72-8D0F-3CA809B9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499ECB-9E61-489B-8B5F-55F3BB7F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F5042F-0307-4FCD-AD56-513E0892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903F-C7E0-4020-A576-B1EF48FD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00982D-7C96-4791-90C6-A8409F3C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201541-2E99-4AE3-ADDA-E34EA2ED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CD1BD4-7DAE-4E92-957B-39E97CA7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93EB4C-7DC6-4A19-9B3D-59156851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CAD5F8-E79B-49C8-9EED-E841471F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BF1E98-E43D-44F3-B822-9337F400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165A13-8786-49DE-A3D9-C5159926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C55C81-3BAC-490E-9FD9-B9D71E92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3CBDAE-1584-4179-A244-B864FA4B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AFBB32-12C2-49A9-A500-9F09FD51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315D-F9BE-4596-93A1-24186E16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0378-CD7C-43EA-B4B0-8952BD05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5CD7E4-248E-4748-B5E3-15EAAB5A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63D36C-8724-4B1A-A157-D707F843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D8D5F6-FC53-46F5-8901-2FAED3DE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C48EB9-D2DF-4353-9E7E-5FBDD5F0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B069F0-C671-431B-A94A-E58DDFC4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FDAB48-8B5F-466F-84C7-BA2DC650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E6D756-23AC-420B-8FA9-7B86959B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D44C04-F278-4A66-8254-2C802820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0EC37F-B9D4-4A5D-B990-0202CC6E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00CD90-3D99-4710-9670-9F5604C4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25B6-A3AA-4AFA-8E6F-5314F9EF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96F715-42C8-4C22-82B9-1B508D96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9E0D5B-A6D8-4A15-92BC-5EDDF2BF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1E80BE-FB30-4893-9B43-6D0A5216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3F5BDD-BBB2-4060-84B9-A798501A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AC2C9F-E40F-43D5-8808-0B000D27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0A0FD9-7892-4CAE-AD18-ADC734E3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250747-8FB0-4187-A36C-0F2B4E2E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F44C85-807A-42A9-944B-643B5795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7E41F4-B4CF-4DE1-9E3E-11B58BBE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A00A27-D5FB-4544-81AA-281465A8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60C1-0E43-4E0B-880A-7F4A7BA7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145D92-9D4F-491B-8513-453034B9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13B344-C1C2-4F23-B50A-0BEA73A1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4821DC-4710-4345-B64E-BC8F032D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D9219A-09CA-4D5B-9CA5-3F43997D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9C8125-BBF5-4336-A75E-9FC03A9E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A8780A-6702-4FDA-B8FC-F40E42F3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A331AF-29F8-4ADE-82E2-5C9C82D6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4C08F7-484D-4FAD-953E-922FC958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A49999-2271-49C1-8A73-52E88E42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5AF4-56CE-4A4E-8208-B3070E3E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090B-1C93-422F-9DE9-BC9D0C4A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17D59-EE0B-47D9-A063-A31BBC32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35C99-1552-4E67-BF3C-974F22AC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35952-5F4D-46A1-9A29-99E6E81C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0CD9F-61E6-459C-BD6E-6CB3FB38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CEB6C-E2F4-430F-91D1-B37306C5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5461-617D-4736-9B50-4A018195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41FAB-6C1A-44E1-BCF4-9F6EF445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B7193-0B7F-4764-A149-FAA8D80F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7361F-9DE8-469B-9049-1BC7C2CE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BCB35-D3DC-4424-AE28-B04A67C3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E52A0-6B71-42D3-95A6-544116E1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87E55-D328-449D-BB45-AA608D0E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CC4F7-AC1C-44AF-9F1D-8345DB59D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157BC-E5BA-481F-B52B-12E10876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C548C-C224-403A-A767-46331792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19A98-A557-4BFA-A1F4-840175E7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F3E1-890C-40CA-9A68-935075EB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9CAF3-C8AD-421E-97ED-30D1D664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3BFF1-FA23-4760-9A41-0C15FCF9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C69BD-E3CD-46EE-8EA3-C6EC6C28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47D87-0118-4478-9B15-4673A238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6E0AA-EFAD-44B7-9C2A-4AB91BF5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6DCCD-C03B-4F0D-B63B-90B211B3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1FB1B-0044-4FCC-BA78-9506B10D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8D959-5D76-4E42-9814-9C040AA2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4E0C5-4768-41D9-995C-50AF2B53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457A2-B40A-4010-8CB6-14AB7372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EA0F-A250-43FA-917C-B2B2DF89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9557B-8A7A-4A16-BF9D-607034EA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8F100-0BF3-4AC6-B080-39D9F381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11664-A63E-4F66-8E62-B2B719E8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26C1C-C80C-4EAB-A5F9-FDC4EB18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78706-3B7C-46E5-8126-274D664F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CC44D-667F-4565-9A83-140F2351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F61BC-9B22-4307-A1F3-C85E7C14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BAD83-C6E0-4391-81FB-DCD646A8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18B90-91EB-4FBC-94CB-52184930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71D13-016F-4377-87F3-3F6DEDA5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D99C-2DD6-4675-91DB-6DDBC51B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67DAD-B444-4253-A940-1AB1762B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63B3A-C84D-4916-8F82-03BFD16F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6B341-3EE2-408C-8090-AE7FB6E3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08328-9D51-40BA-9B49-E159E71F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7276B-27A3-487B-B5B9-582E7663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8FA1E-BE09-43C3-B031-B51769D2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0D77A-4AF0-42D7-9CB0-8F82E205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3816A-6AE1-4869-BABB-E413FE39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44739-352E-48AE-87B8-B433537C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0973D-3614-4256-BFE4-319CE0FF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0F53-A616-4D19-9302-80FF327D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B2252-A99E-4497-943B-523D5609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B259E-843A-46CF-9D2A-3EE0A855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A81F9-3654-433D-AB9C-E1F151A2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FB3C1-6889-4523-A894-E5DA1E3F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234E6-CFAB-488C-B0B3-E37FBDC3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4481C-DB63-49B9-B65F-78EA02E2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DA902-B594-4683-9A66-7F0AF4C9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B6C1A-D015-4317-B581-F20CFF9E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F6F22-C0D9-4A3B-A52A-101B36CE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D772F-DF6F-4085-8CC0-C3AECB6B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21C0-964A-4C4B-8D1E-D228347C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DAE29-3B9F-4A6A-A7AB-2D24398E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E3508-9699-41BD-AB5A-1CF2CABC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CF647-99E1-44B3-85BB-050AFF0A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492CB-07EB-4320-A404-64EED504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422B5-77AA-4D80-80EB-85E40D43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9B9B2-4548-474A-991C-9A54EC6D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D37EF-42D7-437A-8761-72B29E4F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16758-C356-4252-88D3-6831FE78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974FE-8787-4616-B3B6-B3A13928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69AF2-A526-431B-A4F3-E6FAF0F9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ADAC-112A-4DA0-8F60-3F289D93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12DD3-203C-43CE-87DD-CCBADB7C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D71F0-6688-4DD0-AC14-793348BF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556A0-7824-454A-BDF5-39EC942D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A5008-14B2-47ED-9BA8-15C6C377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DB8FE-38FA-48F4-92D6-39264DD9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8B017-480C-4EB5-9B05-7EF945F6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D07FD-E84B-47C5-9CCE-9C471DB7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CE223-8206-411C-AA2A-3191B306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8FA10-2121-463B-8177-E1A8769D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97DBA-092A-4510-BCE9-EEF98ECE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C685-1C5F-492C-BB2F-0206AB217A32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51ED-0E08-4515-A68F-E1DF508123B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9986-3AD2-4E85-8A5F-B149FC7A75A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9677-E7AD-48CF-8576-13A3FB624C3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3DFB-D0D0-4ECC-99EB-029A3BC9DED9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0619-D1B4-4F5B-BCA1-DFAAC6B3765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98A9-5C98-4450-8714-6FC9DE14AA1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0C95-3544-4DDC-B6E9-13A6799DBDB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B97F-8BBC-413F-AD22-E7D5A214F02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9830-7817-4A53-8150-401D32B7946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9646-706B-46E6-B4D1-7A69A7D637B9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B2DA-0C67-49A5-8449-3BA86B109A9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79D0-BABD-4308-9DB2-1719D9CD984D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0E5F-99A9-4EF0-9ED2-4A41F05CBDE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9099-3C16-4317-93CD-AD5B87CF103D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A674-ECAD-474B-A10D-62F0A29FF5F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6434-B38F-4274-9C96-344A12BED048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5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5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F3E3-04AB-4455-8CFC-3E742DEBC9C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5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C555-F3BF-49AA-8884-72A69010A4A2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5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5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5DF8-D4AA-4CE1-8264-91380754C02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0E12-130B-4E45-9355-78363B3AC2F0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CB56-0E35-4FB1-B80F-ABF21AA2E2E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C77F-F337-4BF9-80E3-73C8E55620A7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3D3E-8110-4E1D-8A15-9671BBCA54E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63A6-442E-4C09-AFBE-917CF4782D68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9A0E-19C6-482E-AFD2-E1D6BC0D913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485C-00F9-4176-A9E0-F2BE579A0F1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1B15-E009-4A0C-9777-11CC9857413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F85F-5C1E-42AA-A84C-120680077312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95F2-B296-4AD6-98FA-578C3015D40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B6F4-8F77-44A8-B3C5-7112970D1BE9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8AEB-0322-46DB-A38B-371FBC7FA7D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3022-7004-4547-A599-E368ACE50A09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7939-9888-4819-8572-B26DBD87434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AA88-BB76-4C86-ACDE-21D05AB8A2DD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9359-90EF-4B5B-A5D1-2C664EE42D2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9713-A979-41E2-B06A-FB2053B962DA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7149-C24C-4BA1-BBBA-87FA8931CED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1 Rectángulo"/>
          <p:cNvSpPr/>
          <p:nvPr/>
        </p:nvSpPr>
        <p:spPr>
          <a:xfrm>
            <a:off x="611280" y="549360"/>
            <a:ext cx="7921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 Rounded MT Bold"/>
              </a:rPr>
              <a:t>Bolilla 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00"/>
                </a:solidFill>
                <a:uFillTx/>
                <a:latin typeface="Arial Rounded MT Bold"/>
              </a:rPr>
              <a:t>Metabolismo de los líp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 Rounded MT Bold"/>
              </a:rPr>
              <a:t>- </a:t>
            </a: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Digestión y absorción de lípi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59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Transporte de lípi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59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Degradación de Ácidos Gras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59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Cuerpos cetónic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 Rounded MT Bold"/>
              </a:rPr>
              <a:t>Biosíntesis de Ácidos Gra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 Rounded MT Bold"/>
              </a:rPr>
              <a:t>- Metabolismo del colesterol. Regulación molecu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799A-E359-4DFE-941A-8A768B4ED7D0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91640" y="609120"/>
            <a:ext cx="812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 Narrow"/>
              </a:rPr>
              <a:t>Etapas de la Síntesis de Ac. Gras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871280" y="2384280"/>
            <a:ext cx="664380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Compren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Formación de malonil-Co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acciones catalizadas por el complejo multienzimático de 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Ácido graso sinta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6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1E26-8179-4374-90CD-C1B6161F2ACB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83800" y="21564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00"/>
                </a:solidFill>
                <a:latin typeface="Arial Narrow"/>
              </a:rPr>
              <a:t>1) Formación de malonil-Co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317080" cy="24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una carboxilación que requiere H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como fuente de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taliza: 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 usa biotina (Vit B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 como coenz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s el principal sitio de regulación de la síntesis d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1" name="Object 4"/>
          <p:cNvGraphicFramePr/>
          <p:nvPr/>
        </p:nvGraphicFramePr>
        <p:xfrm>
          <a:off x="431640" y="4365720"/>
          <a:ext cx="8282160" cy="13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365720"/>
                    <a:ext cx="828216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ángulo 15"/>
          <p:cNvSpPr/>
          <p:nvPr/>
        </p:nvSpPr>
        <p:spPr>
          <a:xfrm rot="5400000">
            <a:off x="3201120" y="3319920"/>
            <a:ext cx="647640" cy="144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Cuadro de texto 17"/>
          <p:cNvSpPr/>
          <p:nvPr/>
        </p:nvSpPr>
        <p:spPr>
          <a:xfrm>
            <a:off x="687240" y="1197000"/>
            <a:ext cx="7704360" cy="26845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cetil-CoA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Proteína transportadora de bio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Biotina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Trans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 Enzima Alosté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Cuadro de texto 23"/>
          <p:cNvSpPr/>
          <p:nvPr/>
        </p:nvSpPr>
        <p:spPr>
          <a:xfrm>
            <a:off x="1744560" y="333360"/>
            <a:ext cx="5761080" cy="581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Acetil-CoA Carboxila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Rectángulo 24"/>
          <p:cNvSpPr/>
          <p:nvPr/>
        </p:nvSpPr>
        <p:spPr>
          <a:xfrm>
            <a:off x="687240" y="4351320"/>
            <a:ext cx="759636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Biotina: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 Grupo prostético de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acetil-CoA Carboxila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1 CuadroTexto"/>
          <p:cNvSpPr/>
          <p:nvPr/>
        </p:nvSpPr>
        <p:spPr>
          <a:xfrm>
            <a:off x="1752840" y="5732640"/>
            <a:ext cx="632844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  <a:ea typeface="Arial"/>
              </a:rPr>
              <a:t>TAMBIEN TIENE REGULACIÓN HORMONAL Y DIET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ángulo 4"/>
          <p:cNvSpPr/>
          <p:nvPr/>
        </p:nvSpPr>
        <p:spPr>
          <a:xfrm>
            <a:off x="25092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REACCION Y REGULACIÓN DE LA 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ACETIL-CoA CARBOXILASA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Cuadro de texto 5"/>
          <p:cNvSpPr/>
          <p:nvPr/>
        </p:nvSpPr>
        <p:spPr>
          <a:xfrm>
            <a:off x="208080" y="3071880"/>
            <a:ext cx="14475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cet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Cuadro de texto 6"/>
          <p:cNvSpPr/>
          <p:nvPr/>
        </p:nvSpPr>
        <p:spPr>
          <a:xfrm>
            <a:off x="3203640" y="3284640"/>
            <a:ext cx="1655640" cy="71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Acetil-CoA carboxil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Cuadro de texto 7"/>
          <p:cNvSpPr/>
          <p:nvPr/>
        </p:nvSpPr>
        <p:spPr>
          <a:xfrm>
            <a:off x="2340000" y="3068640"/>
            <a:ext cx="838080" cy="405720"/>
          </a:xfrm>
          <a:prstGeom prst="rect">
            <a:avLst/>
          </a:prstGeom>
          <a:solidFill>
            <a:srgbClr val="f9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HCO</a:t>
            </a:r>
            <a:r>
              <a:rPr b="1" lang="es-ES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r>
              <a:rPr b="1" lang="es-ES" sz="1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Cuadro de texto 9"/>
          <p:cNvSpPr/>
          <p:nvPr/>
        </p:nvSpPr>
        <p:spPr>
          <a:xfrm>
            <a:off x="6084720" y="4005360"/>
            <a:ext cx="172728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alon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Cuadro de texto 10"/>
          <p:cNvSpPr/>
          <p:nvPr/>
        </p:nvSpPr>
        <p:spPr>
          <a:xfrm>
            <a:off x="324000" y="2852640"/>
            <a:ext cx="194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Imagen 11"/>
          <p:cNvSpPr/>
          <p:nvPr/>
        </p:nvSpPr>
        <p:spPr>
          <a:xfrm>
            <a:off x="250920" y="2565360"/>
            <a:ext cx="20113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Línea 12"/>
          <p:cNvSpPr/>
          <p:nvPr/>
        </p:nvSpPr>
        <p:spPr>
          <a:xfrm>
            <a:off x="3276720" y="3284640"/>
            <a:ext cx="194616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Cuadro de texto 13"/>
          <p:cNvSpPr/>
          <p:nvPr/>
        </p:nvSpPr>
        <p:spPr>
          <a:xfrm>
            <a:off x="3276720" y="2781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ATP      ADP + P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Autoforma 14"/>
          <p:cNvSpPr/>
          <p:nvPr/>
        </p:nvSpPr>
        <p:spPr>
          <a:xfrm>
            <a:off x="3708360" y="3068640"/>
            <a:ext cx="792360" cy="216000"/>
          </a:xfrm>
          <a:custGeom>
            <a:avLst/>
            <a:gdLst>
              <a:gd name="textAreaLeft" fmla="*/ 138600 w 792360"/>
              <a:gd name="textAreaRight" fmla="*/ 574560 w 792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Cuadro de texto 16"/>
          <p:cNvSpPr/>
          <p:nvPr/>
        </p:nvSpPr>
        <p:spPr>
          <a:xfrm>
            <a:off x="1692360" y="306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9" name="Grupo 20"/>
          <p:cNvGrpSpPr/>
          <p:nvPr/>
        </p:nvGrpSpPr>
        <p:grpSpPr>
          <a:xfrm>
            <a:off x="5292720" y="2276640"/>
            <a:ext cx="3959280" cy="1617480"/>
            <a:chOff x="5292720" y="2276640"/>
            <a:chExt cx="3959280" cy="1617480"/>
          </a:xfrm>
        </p:grpSpPr>
        <p:pic>
          <p:nvPicPr>
            <p:cNvPr id="900" name="Imagen 17" descr="MALONCOA"/>
            <p:cNvPicPr/>
            <p:nvPr/>
          </p:nvPicPr>
          <p:blipFill>
            <a:blip r:embed="rId1"/>
            <a:srcRect l="0" t="0" r="17937" b="18488"/>
            <a:stretch/>
          </p:blipFill>
          <p:spPr>
            <a:xfrm>
              <a:off x="5292720" y="2276640"/>
              <a:ext cx="3166920" cy="16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Cuadro de texto 19"/>
            <p:cNvSpPr/>
            <p:nvPr/>
          </p:nvSpPr>
          <p:spPr>
            <a:xfrm>
              <a:off x="8459640" y="29242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 H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2" name="Cuadro de texto 22"/>
          <p:cNvSpPr/>
          <p:nvPr/>
        </p:nvSpPr>
        <p:spPr>
          <a:xfrm>
            <a:off x="5219640" y="2349360"/>
            <a:ext cx="136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Cuadro de texto 24"/>
          <p:cNvSpPr/>
          <p:nvPr/>
        </p:nvSpPr>
        <p:spPr>
          <a:xfrm>
            <a:off x="826920" y="5157720"/>
            <a:ext cx="1656000" cy="71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Acetil-CoA carboxil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Autoforma 25"/>
          <p:cNvSpPr/>
          <p:nvPr/>
        </p:nvSpPr>
        <p:spPr>
          <a:xfrm>
            <a:off x="2843280" y="4581360"/>
            <a:ext cx="504720" cy="1872000"/>
          </a:xfrm>
          <a:custGeom>
            <a:avLst/>
            <a:gdLst>
              <a:gd name="textAreaLeft" fmla="*/ 322560 w 504720"/>
              <a:gd name="textAreaRight" fmla="*/ 505080 w 504720"/>
              <a:gd name="textAreaTop" fmla="*/ 48600 h 1872000"/>
              <a:gd name="textAreaBottom" fmla="*/ 182340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Cuadro de texto 26"/>
          <p:cNvSpPr/>
          <p:nvPr/>
        </p:nvSpPr>
        <p:spPr>
          <a:xfrm rot="20057400">
            <a:off x="4354200" y="3860640"/>
            <a:ext cx="1079640" cy="368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  <a:ea typeface="Arial"/>
              </a:rPr>
              <a:t>biot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Cuadro de texto 27"/>
          <p:cNvSpPr/>
          <p:nvPr/>
        </p:nvSpPr>
        <p:spPr>
          <a:xfrm>
            <a:off x="3203640" y="5084640"/>
            <a:ext cx="1224000" cy="368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ím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Cuadro de texto 28"/>
          <p:cNvSpPr/>
          <p:nvPr/>
        </p:nvSpPr>
        <p:spPr>
          <a:xfrm>
            <a:off x="6732720" y="5013360"/>
            <a:ext cx="208728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Forma filamento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Línea 29"/>
          <p:cNvSpPr/>
          <p:nvPr/>
        </p:nvSpPr>
        <p:spPr>
          <a:xfrm>
            <a:off x="4932360" y="5229360"/>
            <a:ext cx="12240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Elipse 30"/>
          <p:cNvSpPr/>
          <p:nvPr/>
        </p:nvSpPr>
        <p:spPr>
          <a:xfrm>
            <a:off x="4896000" y="4653000"/>
            <a:ext cx="1188720" cy="57636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Arial"/>
              </a:rPr>
              <a:t>Citrato (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Elipse 31"/>
          <p:cNvSpPr/>
          <p:nvPr/>
        </p:nvSpPr>
        <p:spPr>
          <a:xfrm>
            <a:off x="3348000" y="551664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Inac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Elipse 32"/>
          <p:cNvSpPr/>
          <p:nvPr/>
        </p:nvSpPr>
        <p:spPr>
          <a:xfrm>
            <a:off x="7308720" y="566100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Ac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Línea 33"/>
          <p:cNvSpPr/>
          <p:nvPr/>
        </p:nvSpPr>
        <p:spPr>
          <a:xfrm flipH="1">
            <a:off x="5003280" y="5445000"/>
            <a:ext cx="10810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Elipse 34"/>
          <p:cNvSpPr/>
          <p:nvPr/>
        </p:nvSpPr>
        <p:spPr>
          <a:xfrm>
            <a:off x="4859280" y="5516640"/>
            <a:ext cx="1871640" cy="7920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  <a:ea typeface="Arial"/>
              </a:rPr>
              <a:t>AG de caden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  <a:ea typeface="Arial"/>
              </a:rPr>
              <a:t>Larga (-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1259-3066-4697-BB1E-917B9A3D6211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72600" y="17892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Arial Narrow"/>
              </a:rPr>
              <a:t>2) Reacciones de la acido graso sintasa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476360" y="1412640"/>
            <a:ext cx="7439040" cy="49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taliza la síntesis de AG de hasta 16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ormada por 2 subunidades idénticas con orientación opuesta, cada una con 3 domini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minio 1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ingreso de sustratos y unidad de condensación. Contiene 3 enzim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ff00"/>
                </a:solidFill>
                <a:latin typeface="Arial"/>
              </a:rPr>
              <a:t>Acetil transferasa (A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Malonil transferasa (M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ffff"/>
                </a:solidFill>
                <a:latin typeface="Arial"/>
              </a:rPr>
              <a:t>Enzima condensante (KS) o Cetoacil sintasa con resto de Cisteí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minio 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unidad de reducción. Contiene 3 enzim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33"/>
                </a:solidFill>
                <a:latin typeface="Arial"/>
              </a:rPr>
              <a:t>Cetoacil reductasa (K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idroxiacil deshidratasa (H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Enoil reductasa (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see la proteína transportadora de acilos AC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minio 3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liberación de AG. Posee la enzim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33"/>
                </a:solidFill>
                <a:latin typeface="Arial"/>
              </a:rPr>
              <a:t>Tioesterasa o Deacilas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7" name="Picture 16" descr=""/>
          <p:cNvPicPr/>
          <p:nvPr/>
        </p:nvPicPr>
        <p:blipFill>
          <a:blip r:embed="rId1"/>
          <a:srcRect l="27852" t="0" r="4160" b="59988"/>
          <a:stretch/>
        </p:blipFill>
        <p:spPr>
          <a:xfrm>
            <a:off x="154080" y="3130560"/>
            <a:ext cx="2300040" cy="2162160"/>
          </a:xfrm>
          <a:prstGeom prst="rect">
            <a:avLst/>
          </a:prstGeom>
          <a:ln w="0">
            <a:noFill/>
          </a:ln>
        </p:spPr>
      </p:pic>
      <p:sp>
        <p:nvSpPr>
          <p:cNvPr id="918" name="6 CuadroTexto"/>
          <p:cNvSpPr/>
          <p:nvPr/>
        </p:nvSpPr>
        <p:spPr>
          <a:xfrm>
            <a:off x="191160" y="532764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Una subunidad de Acid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Graso Sintetas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Forma libre 137"/>
          <p:cNvSpPr/>
          <p:nvPr/>
        </p:nvSpPr>
        <p:spPr>
          <a:xfrm>
            <a:off x="4525920" y="4741920"/>
            <a:ext cx="4187880" cy="1631880"/>
          </a:xfrm>
          <a:custGeom>
            <a:avLst/>
            <a:gdLst/>
            <a:ahLst/>
            <a:rect l="l" t="t" r="r" b="b"/>
            <a:pathLst>
              <a:path w="2638" h="1028">
                <a:moveTo>
                  <a:pt x="269" y="469"/>
                </a:moveTo>
                <a:cubicBezTo>
                  <a:pt x="197" y="525"/>
                  <a:pt x="0" y="667"/>
                  <a:pt x="29" y="757"/>
                </a:cubicBezTo>
                <a:cubicBezTo>
                  <a:pt x="58" y="847"/>
                  <a:pt x="278" y="996"/>
                  <a:pt x="446" y="1012"/>
                </a:cubicBezTo>
                <a:cubicBezTo>
                  <a:pt x="614" y="1028"/>
                  <a:pt x="934" y="909"/>
                  <a:pt x="1037" y="853"/>
                </a:cubicBezTo>
                <a:cubicBezTo>
                  <a:pt x="1140" y="797"/>
                  <a:pt x="1000" y="686"/>
                  <a:pt x="1064" y="678"/>
                </a:cubicBezTo>
                <a:cubicBezTo>
                  <a:pt x="1128" y="670"/>
                  <a:pt x="1269" y="804"/>
                  <a:pt x="1421" y="805"/>
                </a:cubicBezTo>
                <a:cubicBezTo>
                  <a:pt x="1573" y="806"/>
                  <a:pt x="1894" y="750"/>
                  <a:pt x="1974" y="686"/>
                </a:cubicBezTo>
                <a:cubicBezTo>
                  <a:pt x="2054" y="622"/>
                  <a:pt x="1809" y="457"/>
                  <a:pt x="1901" y="421"/>
                </a:cubicBezTo>
                <a:cubicBezTo>
                  <a:pt x="1993" y="385"/>
                  <a:pt x="2421" y="528"/>
                  <a:pt x="2525" y="469"/>
                </a:cubicBezTo>
                <a:cubicBezTo>
                  <a:pt x="2629" y="410"/>
                  <a:pt x="2638" y="136"/>
                  <a:pt x="2525" y="68"/>
                </a:cubicBezTo>
                <a:cubicBezTo>
                  <a:pt x="2412" y="0"/>
                  <a:pt x="1969" y="9"/>
                  <a:pt x="1849" y="60"/>
                </a:cubicBezTo>
                <a:cubicBezTo>
                  <a:pt x="1729" y="111"/>
                  <a:pt x="1852" y="329"/>
                  <a:pt x="1805" y="373"/>
                </a:cubicBezTo>
                <a:cubicBezTo>
                  <a:pt x="1758" y="417"/>
                  <a:pt x="1669" y="333"/>
                  <a:pt x="1565" y="325"/>
                </a:cubicBezTo>
                <a:cubicBezTo>
                  <a:pt x="1461" y="317"/>
                  <a:pt x="1276" y="287"/>
                  <a:pt x="1181" y="325"/>
                </a:cubicBezTo>
                <a:cubicBezTo>
                  <a:pt x="1086" y="363"/>
                  <a:pt x="1061" y="531"/>
                  <a:pt x="997" y="552"/>
                </a:cubicBezTo>
                <a:cubicBezTo>
                  <a:pt x="933" y="573"/>
                  <a:pt x="886" y="474"/>
                  <a:pt x="797" y="452"/>
                </a:cubicBezTo>
                <a:cubicBezTo>
                  <a:pt x="708" y="430"/>
                  <a:pt x="549" y="418"/>
                  <a:pt x="461" y="421"/>
                </a:cubicBezTo>
                <a:cubicBezTo>
                  <a:pt x="373" y="424"/>
                  <a:pt x="341" y="413"/>
                  <a:pt x="269" y="469"/>
                </a:cubicBez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Forma libre 136"/>
          <p:cNvSpPr/>
          <p:nvPr/>
        </p:nvSpPr>
        <p:spPr>
          <a:xfrm>
            <a:off x="-11160" y="4925880"/>
            <a:ext cx="4233960" cy="1703520"/>
          </a:xfrm>
          <a:custGeom>
            <a:avLst/>
            <a:gdLst/>
            <a:ahLst/>
            <a:rect l="l" t="t" r="r" b="b"/>
            <a:pathLst>
              <a:path w="2667" h="1073">
                <a:moveTo>
                  <a:pt x="274" y="161"/>
                </a:moveTo>
                <a:cubicBezTo>
                  <a:pt x="199" y="221"/>
                  <a:pt x="48" y="318"/>
                  <a:pt x="24" y="445"/>
                </a:cubicBezTo>
                <a:cubicBezTo>
                  <a:pt x="0" y="572"/>
                  <a:pt x="54" y="936"/>
                  <a:pt x="132" y="921"/>
                </a:cubicBezTo>
                <a:cubicBezTo>
                  <a:pt x="210" y="906"/>
                  <a:pt x="410" y="354"/>
                  <a:pt x="491" y="353"/>
                </a:cubicBezTo>
                <a:cubicBezTo>
                  <a:pt x="572" y="352"/>
                  <a:pt x="489" y="797"/>
                  <a:pt x="619" y="914"/>
                </a:cubicBezTo>
                <a:cubicBezTo>
                  <a:pt x="749" y="1031"/>
                  <a:pt x="1148" y="1070"/>
                  <a:pt x="1268" y="1054"/>
                </a:cubicBezTo>
                <a:cubicBezTo>
                  <a:pt x="1388" y="1038"/>
                  <a:pt x="1299" y="819"/>
                  <a:pt x="1339" y="818"/>
                </a:cubicBezTo>
                <a:cubicBezTo>
                  <a:pt x="1379" y="817"/>
                  <a:pt x="1372" y="1023"/>
                  <a:pt x="1506" y="1048"/>
                </a:cubicBezTo>
                <a:cubicBezTo>
                  <a:pt x="1640" y="1073"/>
                  <a:pt x="2068" y="1025"/>
                  <a:pt x="2144" y="971"/>
                </a:cubicBezTo>
                <a:cubicBezTo>
                  <a:pt x="2220" y="917"/>
                  <a:pt x="1894" y="750"/>
                  <a:pt x="1963" y="722"/>
                </a:cubicBezTo>
                <a:cubicBezTo>
                  <a:pt x="2032" y="694"/>
                  <a:pt x="2455" y="828"/>
                  <a:pt x="2561" y="804"/>
                </a:cubicBezTo>
                <a:cubicBezTo>
                  <a:pt x="2667" y="780"/>
                  <a:pt x="2644" y="650"/>
                  <a:pt x="2600" y="580"/>
                </a:cubicBezTo>
                <a:cubicBezTo>
                  <a:pt x="2556" y="510"/>
                  <a:pt x="2404" y="408"/>
                  <a:pt x="2299" y="386"/>
                </a:cubicBezTo>
                <a:cubicBezTo>
                  <a:pt x="2194" y="364"/>
                  <a:pt x="2055" y="413"/>
                  <a:pt x="1969" y="445"/>
                </a:cubicBezTo>
                <a:cubicBezTo>
                  <a:pt x="1883" y="477"/>
                  <a:pt x="1887" y="531"/>
                  <a:pt x="1785" y="578"/>
                </a:cubicBezTo>
                <a:cubicBezTo>
                  <a:pt x="1683" y="625"/>
                  <a:pt x="1451" y="731"/>
                  <a:pt x="1359" y="729"/>
                </a:cubicBezTo>
                <a:cubicBezTo>
                  <a:pt x="1267" y="727"/>
                  <a:pt x="1307" y="595"/>
                  <a:pt x="1230" y="563"/>
                </a:cubicBezTo>
                <a:cubicBezTo>
                  <a:pt x="1153" y="531"/>
                  <a:pt x="967" y="552"/>
                  <a:pt x="897" y="538"/>
                </a:cubicBezTo>
                <a:cubicBezTo>
                  <a:pt x="827" y="524"/>
                  <a:pt x="801" y="515"/>
                  <a:pt x="811" y="482"/>
                </a:cubicBezTo>
                <a:cubicBezTo>
                  <a:pt x="821" y="449"/>
                  <a:pt x="939" y="402"/>
                  <a:pt x="955" y="338"/>
                </a:cubicBezTo>
                <a:cubicBezTo>
                  <a:pt x="971" y="274"/>
                  <a:pt x="963" y="154"/>
                  <a:pt x="907" y="98"/>
                </a:cubicBezTo>
                <a:cubicBezTo>
                  <a:pt x="851" y="42"/>
                  <a:pt x="691" y="4"/>
                  <a:pt x="619" y="2"/>
                </a:cubicBezTo>
                <a:cubicBezTo>
                  <a:pt x="547" y="0"/>
                  <a:pt x="531" y="60"/>
                  <a:pt x="474" y="86"/>
                </a:cubicBezTo>
                <a:cubicBezTo>
                  <a:pt x="417" y="112"/>
                  <a:pt x="316" y="146"/>
                  <a:pt x="274" y="161"/>
                </a:cubicBez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Cuadro de texto 115"/>
          <p:cNvSpPr/>
          <p:nvPr/>
        </p:nvSpPr>
        <p:spPr>
          <a:xfrm>
            <a:off x="762120" y="31240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Cis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Elipse 44"/>
          <p:cNvSpPr/>
          <p:nvPr/>
        </p:nvSpPr>
        <p:spPr>
          <a:xfrm>
            <a:off x="3352680" y="2514600"/>
            <a:ext cx="2210040" cy="600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ubunidad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Cuadro de texto 75"/>
          <p:cNvSpPr/>
          <p:nvPr/>
        </p:nvSpPr>
        <p:spPr>
          <a:xfrm>
            <a:off x="7315200" y="28195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4´Fosfo  pante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Forma libre 117"/>
          <p:cNvSpPr/>
          <p:nvPr/>
        </p:nvSpPr>
        <p:spPr>
          <a:xfrm>
            <a:off x="4325760" y="1244520"/>
            <a:ext cx="4818240" cy="1766880"/>
          </a:xfrm>
          <a:custGeom>
            <a:avLst/>
            <a:gdLst/>
            <a:ahLst/>
            <a:rect l="l" t="t" r="r" b="b"/>
            <a:pathLst>
              <a:path w="3035" h="1113">
                <a:moveTo>
                  <a:pt x="97" y="51"/>
                </a:moveTo>
                <a:cubicBezTo>
                  <a:pt x="0" y="102"/>
                  <a:pt x="0" y="304"/>
                  <a:pt x="72" y="368"/>
                </a:cubicBezTo>
                <a:cubicBezTo>
                  <a:pt x="144" y="432"/>
                  <a:pt x="429" y="379"/>
                  <a:pt x="531" y="435"/>
                </a:cubicBezTo>
                <a:cubicBezTo>
                  <a:pt x="633" y="491"/>
                  <a:pt x="575" y="653"/>
                  <a:pt x="681" y="702"/>
                </a:cubicBezTo>
                <a:cubicBezTo>
                  <a:pt x="787" y="751"/>
                  <a:pt x="1089" y="668"/>
                  <a:pt x="1165" y="727"/>
                </a:cubicBezTo>
                <a:cubicBezTo>
                  <a:pt x="1241" y="786"/>
                  <a:pt x="1020" y="993"/>
                  <a:pt x="1140" y="1053"/>
                </a:cubicBezTo>
                <a:cubicBezTo>
                  <a:pt x="1260" y="1113"/>
                  <a:pt x="1744" y="1105"/>
                  <a:pt x="1883" y="1088"/>
                </a:cubicBezTo>
                <a:cubicBezTo>
                  <a:pt x="2022" y="1071"/>
                  <a:pt x="1887" y="968"/>
                  <a:pt x="1975" y="952"/>
                </a:cubicBezTo>
                <a:cubicBezTo>
                  <a:pt x="2063" y="936"/>
                  <a:pt x="2332" y="1002"/>
                  <a:pt x="2411" y="992"/>
                </a:cubicBezTo>
                <a:cubicBezTo>
                  <a:pt x="2490" y="982"/>
                  <a:pt x="2446" y="923"/>
                  <a:pt x="2451" y="894"/>
                </a:cubicBezTo>
                <a:cubicBezTo>
                  <a:pt x="2456" y="865"/>
                  <a:pt x="2385" y="835"/>
                  <a:pt x="2442" y="819"/>
                </a:cubicBezTo>
                <a:cubicBezTo>
                  <a:pt x="2499" y="803"/>
                  <a:pt x="2699" y="821"/>
                  <a:pt x="2795" y="800"/>
                </a:cubicBezTo>
                <a:cubicBezTo>
                  <a:pt x="2891" y="779"/>
                  <a:pt x="3035" y="751"/>
                  <a:pt x="3018" y="694"/>
                </a:cubicBezTo>
                <a:cubicBezTo>
                  <a:pt x="3001" y="637"/>
                  <a:pt x="2769" y="505"/>
                  <a:pt x="2693" y="460"/>
                </a:cubicBezTo>
                <a:cubicBezTo>
                  <a:pt x="2617" y="415"/>
                  <a:pt x="2616" y="429"/>
                  <a:pt x="2559" y="426"/>
                </a:cubicBezTo>
                <a:cubicBezTo>
                  <a:pt x="2502" y="423"/>
                  <a:pt x="2407" y="417"/>
                  <a:pt x="2350" y="443"/>
                </a:cubicBezTo>
                <a:cubicBezTo>
                  <a:pt x="2293" y="469"/>
                  <a:pt x="2242" y="541"/>
                  <a:pt x="2217" y="585"/>
                </a:cubicBezTo>
                <a:cubicBezTo>
                  <a:pt x="2192" y="629"/>
                  <a:pt x="2242" y="670"/>
                  <a:pt x="2200" y="710"/>
                </a:cubicBezTo>
                <a:cubicBezTo>
                  <a:pt x="2158" y="750"/>
                  <a:pt x="2034" y="820"/>
                  <a:pt x="1966" y="827"/>
                </a:cubicBezTo>
                <a:cubicBezTo>
                  <a:pt x="1898" y="834"/>
                  <a:pt x="1859" y="773"/>
                  <a:pt x="1791" y="752"/>
                </a:cubicBezTo>
                <a:cubicBezTo>
                  <a:pt x="1723" y="731"/>
                  <a:pt x="1614" y="726"/>
                  <a:pt x="1557" y="702"/>
                </a:cubicBezTo>
                <a:cubicBezTo>
                  <a:pt x="1500" y="678"/>
                  <a:pt x="1487" y="661"/>
                  <a:pt x="1451" y="608"/>
                </a:cubicBezTo>
                <a:cubicBezTo>
                  <a:pt x="1415" y="555"/>
                  <a:pt x="1403" y="436"/>
                  <a:pt x="1340" y="385"/>
                </a:cubicBezTo>
                <a:cubicBezTo>
                  <a:pt x="1277" y="334"/>
                  <a:pt x="1158" y="320"/>
                  <a:pt x="1073" y="301"/>
                </a:cubicBezTo>
                <a:cubicBezTo>
                  <a:pt x="988" y="282"/>
                  <a:pt x="897" y="312"/>
                  <a:pt x="827" y="272"/>
                </a:cubicBezTo>
                <a:cubicBezTo>
                  <a:pt x="757" y="232"/>
                  <a:pt x="778" y="96"/>
                  <a:pt x="656" y="59"/>
                </a:cubicBezTo>
                <a:cubicBezTo>
                  <a:pt x="534" y="22"/>
                  <a:pt x="194" y="0"/>
                  <a:pt x="97" y="51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Forma libre 58"/>
          <p:cNvSpPr/>
          <p:nvPr/>
        </p:nvSpPr>
        <p:spPr>
          <a:xfrm>
            <a:off x="585720" y="1424160"/>
            <a:ext cx="3611520" cy="1671480"/>
          </a:xfrm>
          <a:custGeom>
            <a:avLst/>
            <a:gdLst/>
            <a:ahLst/>
            <a:rect l="l" t="t" r="r" b="b"/>
            <a:pathLst>
              <a:path w="2275" h="1053">
                <a:moveTo>
                  <a:pt x="104" y="989"/>
                </a:moveTo>
                <a:cubicBezTo>
                  <a:pt x="208" y="1053"/>
                  <a:pt x="575" y="999"/>
                  <a:pt x="680" y="941"/>
                </a:cubicBezTo>
                <a:cubicBezTo>
                  <a:pt x="785" y="883"/>
                  <a:pt x="731" y="707"/>
                  <a:pt x="735" y="639"/>
                </a:cubicBezTo>
                <a:cubicBezTo>
                  <a:pt x="739" y="571"/>
                  <a:pt x="666" y="549"/>
                  <a:pt x="704" y="531"/>
                </a:cubicBezTo>
                <a:cubicBezTo>
                  <a:pt x="742" y="513"/>
                  <a:pt x="852" y="545"/>
                  <a:pt x="964" y="531"/>
                </a:cubicBezTo>
                <a:cubicBezTo>
                  <a:pt x="1076" y="517"/>
                  <a:pt x="1292" y="448"/>
                  <a:pt x="1375" y="444"/>
                </a:cubicBezTo>
                <a:cubicBezTo>
                  <a:pt x="1458" y="440"/>
                  <a:pt x="1448" y="497"/>
                  <a:pt x="1462" y="507"/>
                </a:cubicBezTo>
                <a:cubicBezTo>
                  <a:pt x="1476" y="517"/>
                  <a:pt x="1442" y="506"/>
                  <a:pt x="1462" y="507"/>
                </a:cubicBezTo>
                <a:cubicBezTo>
                  <a:pt x="1482" y="508"/>
                  <a:pt x="1461" y="509"/>
                  <a:pt x="1580" y="515"/>
                </a:cubicBezTo>
                <a:cubicBezTo>
                  <a:pt x="1699" y="521"/>
                  <a:pt x="2075" y="607"/>
                  <a:pt x="2175" y="543"/>
                </a:cubicBezTo>
                <a:cubicBezTo>
                  <a:pt x="2275" y="479"/>
                  <a:pt x="2238" y="206"/>
                  <a:pt x="2180" y="129"/>
                </a:cubicBezTo>
                <a:cubicBezTo>
                  <a:pt x="2122" y="52"/>
                  <a:pt x="1938" y="71"/>
                  <a:pt x="1825" y="81"/>
                </a:cubicBezTo>
                <a:cubicBezTo>
                  <a:pt x="1712" y="91"/>
                  <a:pt x="1584" y="189"/>
                  <a:pt x="1501" y="192"/>
                </a:cubicBezTo>
                <a:cubicBezTo>
                  <a:pt x="1418" y="195"/>
                  <a:pt x="1481" y="119"/>
                  <a:pt x="1327" y="97"/>
                </a:cubicBezTo>
                <a:cubicBezTo>
                  <a:pt x="1173" y="75"/>
                  <a:pt x="725" y="0"/>
                  <a:pt x="578" y="58"/>
                </a:cubicBezTo>
                <a:cubicBezTo>
                  <a:pt x="431" y="116"/>
                  <a:pt x="534" y="364"/>
                  <a:pt x="447" y="447"/>
                </a:cubicBezTo>
                <a:cubicBezTo>
                  <a:pt x="360" y="530"/>
                  <a:pt x="114" y="465"/>
                  <a:pt x="57" y="555"/>
                </a:cubicBezTo>
                <a:cubicBezTo>
                  <a:pt x="0" y="645"/>
                  <a:pt x="0" y="925"/>
                  <a:pt x="104" y="989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Elipse 55"/>
          <p:cNvSpPr/>
          <p:nvPr/>
        </p:nvSpPr>
        <p:spPr>
          <a:xfrm>
            <a:off x="3344760" y="4808520"/>
            <a:ext cx="2451240" cy="601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ubunidad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Cuadro de texto 54"/>
          <p:cNvSpPr/>
          <p:nvPr/>
        </p:nvSpPr>
        <p:spPr>
          <a:xfrm>
            <a:off x="609480" y="3886200"/>
            <a:ext cx="7925040" cy="150840"/>
          </a:xfrm>
          <a:prstGeom prst="rect">
            <a:avLst/>
          </a:prstGeom>
          <a:solidFill>
            <a:srgbClr val="c0c0c0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Línea 56"/>
          <p:cNvSpPr/>
          <p:nvPr/>
        </p:nvSpPr>
        <p:spPr>
          <a:xfrm>
            <a:off x="4226040" y="1492200"/>
            <a:ext cx="0" cy="47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4308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Esquema Complejo ácido graso sintasa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0" name="Cuadro de texto 62"/>
          <p:cNvSpPr/>
          <p:nvPr/>
        </p:nvSpPr>
        <p:spPr>
          <a:xfrm>
            <a:off x="7620120" y="26668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Cuadro de texto 63"/>
          <p:cNvSpPr/>
          <p:nvPr/>
        </p:nvSpPr>
        <p:spPr>
          <a:xfrm>
            <a:off x="1066680" y="2895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Cuadro de texto 64"/>
          <p:cNvSpPr/>
          <p:nvPr/>
        </p:nvSpPr>
        <p:spPr>
          <a:xfrm>
            <a:off x="8305920" y="21337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Cuadro de texto 67"/>
          <p:cNvSpPr/>
          <p:nvPr/>
        </p:nvSpPr>
        <p:spPr>
          <a:xfrm>
            <a:off x="5334120" y="17524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no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Rectángulo 68"/>
          <p:cNvSpPr/>
          <p:nvPr/>
        </p:nvSpPr>
        <p:spPr>
          <a:xfrm>
            <a:off x="4343400" y="1447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Hidra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Rectángulo 69"/>
          <p:cNvSpPr/>
          <p:nvPr/>
        </p:nvSpPr>
        <p:spPr>
          <a:xfrm>
            <a:off x="1274760" y="16002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etil 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Cuadro de texto 70"/>
          <p:cNvSpPr/>
          <p:nvPr/>
        </p:nvSpPr>
        <p:spPr>
          <a:xfrm>
            <a:off x="685800" y="23623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etoacil sin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Rectángulo 71"/>
          <p:cNvSpPr/>
          <p:nvPr/>
        </p:nvSpPr>
        <p:spPr>
          <a:xfrm>
            <a:off x="2743200" y="16765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Malon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Cuadro de texto 72"/>
          <p:cNvSpPr/>
          <p:nvPr/>
        </p:nvSpPr>
        <p:spPr>
          <a:xfrm>
            <a:off x="7505640" y="2416320"/>
            <a:ext cx="6858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Cuadro de texto 74"/>
          <p:cNvSpPr/>
          <p:nvPr/>
        </p:nvSpPr>
        <p:spPr>
          <a:xfrm>
            <a:off x="7848720" y="21337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ioester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Cuadro de texto 109"/>
          <p:cNvSpPr/>
          <p:nvPr/>
        </p:nvSpPr>
        <p:spPr>
          <a:xfrm>
            <a:off x="6172200" y="23623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etoacil 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Cuadro de texto 111"/>
          <p:cNvSpPr/>
          <p:nvPr/>
        </p:nvSpPr>
        <p:spPr>
          <a:xfrm>
            <a:off x="990720" y="3505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Cuadro de texto 113"/>
          <p:cNvSpPr/>
          <p:nvPr/>
        </p:nvSpPr>
        <p:spPr>
          <a:xfrm>
            <a:off x="609480" y="4267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4´Fosfo  pante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Cuadro de texto 114"/>
          <p:cNvSpPr/>
          <p:nvPr/>
        </p:nvSpPr>
        <p:spPr>
          <a:xfrm>
            <a:off x="7467480" y="3505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Cuadro de texto 116"/>
          <p:cNvSpPr/>
          <p:nvPr/>
        </p:nvSpPr>
        <p:spPr>
          <a:xfrm>
            <a:off x="1066680" y="3276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Cuadro de texto 118"/>
          <p:cNvSpPr/>
          <p:nvPr/>
        </p:nvSpPr>
        <p:spPr>
          <a:xfrm>
            <a:off x="7620120" y="3276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Cuadro de texto 119"/>
          <p:cNvSpPr/>
          <p:nvPr/>
        </p:nvSpPr>
        <p:spPr>
          <a:xfrm>
            <a:off x="990720" y="41148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Cuadro de texto 120"/>
          <p:cNvSpPr/>
          <p:nvPr/>
        </p:nvSpPr>
        <p:spPr>
          <a:xfrm>
            <a:off x="91440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Cuadro de texto 121"/>
          <p:cNvSpPr/>
          <p:nvPr/>
        </p:nvSpPr>
        <p:spPr>
          <a:xfrm>
            <a:off x="2286000" y="5943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no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Cuadro de texto 122"/>
          <p:cNvSpPr/>
          <p:nvPr/>
        </p:nvSpPr>
        <p:spPr>
          <a:xfrm>
            <a:off x="1066680" y="5943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etoacil 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Cuadro de texto 125"/>
          <p:cNvSpPr/>
          <p:nvPr/>
        </p:nvSpPr>
        <p:spPr>
          <a:xfrm>
            <a:off x="7543800" y="4876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etoacil sin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ángulo 126"/>
          <p:cNvSpPr/>
          <p:nvPr/>
        </p:nvSpPr>
        <p:spPr>
          <a:xfrm>
            <a:off x="6172200" y="52578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etil 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ángulo 127"/>
          <p:cNvSpPr/>
          <p:nvPr/>
        </p:nvSpPr>
        <p:spPr>
          <a:xfrm>
            <a:off x="4648320" y="55627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Malon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Cuadro de texto 128"/>
          <p:cNvSpPr/>
          <p:nvPr/>
        </p:nvSpPr>
        <p:spPr>
          <a:xfrm>
            <a:off x="914400" y="5029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Cuadro de texto 129"/>
          <p:cNvSpPr/>
          <p:nvPr/>
        </p:nvSpPr>
        <p:spPr>
          <a:xfrm rot="17535000">
            <a:off x="-288720" y="5469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ioester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Cuadro de texto 130"/>
          <p:cNvSpPr/>
          <p:nvPr/>
        </p:nvSpPr>
        <p:spPr>
          <a:xfrm>
            <a:off x="7696080" y="41911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Rectángulo 131"/>
          <p:cNvSpPr/>
          <p:nvPr/>
        </p:nvSpPr>
        <p:spPr>
          <a:xfrm>
            <a:off x="3124080" y="5791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Hidra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Cuadro de texto 132"/>
          <p:cNvSpPr/>
          <p:nvPr/>
        </p:nvSpPr>
        <p:spPr>
          <a:xfrm>
            <a:off x="990720" y="4724280"/>
            <a:ext cx="3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Cuadro de texto 133"/>
          <p:cNvSpPr/>
          <p:nvPr/>
        </p:nvSpPr>
        <p:spPr>
          <a:xfrm>
            <a:off x="7620120" y="44197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Cis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Cuadro de texto 134"/>
          <p:cNvSpPr/>
          <p:nvPr/>
        </p:nvSpPr>
        <p:spPr>
          <a:xfrm>
            <a:off x="754380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Cuadro de texto 135"/>
          <p:cNvSpPr/>
          <p:nvPr/>
        </p:nvSpPr>
        <p:spPr>
          <a:xfrm>
            <a:off x="7772400" y="4648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Forma libre 138"/>
          <p:cNvSpPr/>
          <p:nvPr/>
        </p:nvSpPr>
        <p:spPr>
          <a:xfrm>
            <a:off x="4191120" y="5943600"/>
            <a:ext cx="380880" cy="76320"/>
          </a:xfrm>
          <a:custGeom>
            <a:avLst/>
            <a:gdLst/>
            <a:ahLst/>
            <a:rect l="l" t="t" r="r" b="b"/>
            <a:pathLst>
              <a:path w="240" h="48">
                <a:moveTo>
                  <a:pt x="0" y="0"/>
                </a:moveTo>
                <a:cubicBezTo>
                  <a:pt x="4" y="24"/>
                  <a:pt x="8" y="48"/>
                  <a:pt x="48" y="48"/>
                </a:cubicBezTo>
                <a:cubicBezTo>
                  <a:pt x="88" y="48"/>
                  <a:pt x="208" y="8"/>
                  <a:pt x="240" y="0"/>
                </a:cubicBez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Forma libre 139"/>
          <p:cNvSpPr/>
          <p:nvPr/>
        </p:nvSpPr>
        <p:spPr>
          <a:xfrm>
            <a:off x="4114800" y="1587600"/>
            <a:ext cx="304920" cy="164880"/>
          </a:xfrm>
          <a:custGeom>
            <a:avLst/>
            <a:gdLst/>
            <a:ahLst/>
            <a:rect l="l" t="t" r="r" b="b"/>
            <a:pathLst>
              <a:path w="192" h="104">
                <a:moveTo>
                  <a:pt x="0" y="104"/>
                </a:moveTo>
                <a:cubicBezTo>
                  <a:pt x="8" y="60"/>
                  <a:pt x="16" y="16"/>
                  <a:pt x="48" y="8"/>
                </a:cubicBezTo>
                <a:cubicBezTo>
                  <a:pt x="80" y="0"/>
                  <a:pt x="168" y="48"/>
                  <a:pt x="192" y="56"/>
                </a:cubicBez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0A66-54A7-43BA-A3AD-814B16F919FE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09680" y="252000"/>
            <a:ext cx="844704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00"/>
                </a:solidFill>
                <a:latin typeface="Arial Narrow"/>
              </a:rPr>
              <a:t>1)Transferencia de acetato.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5" name="Text Box 11"/>
          <p:cNvSpPr/>
          <p:nvPr/>
        </p:nvSpPr>
        <p:spPr>
          <a:xfrm>
            <a:off x="395280" y="1665360"/>
            <a:ext cx="29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Text Box 14"/>
          <p:cNvSpPr/>
          <p:nvPr/>
        </p:nvSpPr>
        <p:spPr>
          <a:xfrm>
            <a:off x="324000" y="2384280"/>
            <a:ext cx="403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Una molécula de acetil-CoA ingresa y la </a:t>
            </a:r>
            <a:r>
              <a:rPr b="0" lang="es-ES" sz="2800" spc="-1" strike="noStrike">
                <a:solidFill>
                  <a:srgbClr val="ff3300"/>
                </a:solidFill>
                <a:latin typeface="Arial Narrow"/>
                <a:ea typeface="Arial"/>
              </a:rPr>
              <a:t>acetil transferasa (AT)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transfiere el resto acetilo al sitio activo de la </a:t>
            </a:r>
            <a:r>
              <a:rPr b="0" lang="es-ES" sz="2800" spc="-1" strike="noStrike">
                <a:solidFill>
                  <a:srgbClr val="ffff00"/>
                </a:solidFill>
                <a:latin typeface="Arial Narrow"/>
                <a:ea typeface="Arial"/>
              </a:rPr>
              <a:t>enzima condensante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 Narrow"/>
                <a:ea typeface="Arial"/>
              </a:rPr>
              <a:t>(K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7" name="Picture 16" descr=""/>
          <p:cNvPicPr/>
          <p:nvPr/>
        </p:nvPicPr>
        <p:blipFill>
          <a:blip r:embed="rId1"/>
          <a:stretch/>
        </p:blipFill>
        <p:spPr>
          <a:xfrm>
            <a:off x="4680000" y="981000"/>
            <a:ext cx="35449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5D9F-2930-423A-AE2B-097E9DBC722D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58560" y="333360"/>
            <a:ext cx="848340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Arial Narrow"/>
              </a:rPr>
              <a:t>2)Transferencia de malonilo.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0" name="Text Box 6"/>
          <p:cNvSpPr/>
          <p:nvPr/>
        </p:nvSpPr>
        <p:spPr>
          <a:xfrm>
            <a:off x="431640" y="1628640"/>
            <a:ext cx="324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El malonil-CoA formado ingresa y se une al residuo de </a:t>
            </a:r>
            <a:r>
              <a:rPr b="0" lang="es-ES" sz="2800" spc="-1" strike="noStrike">
                <a:solidFill>
                  <a:srgbClr val="00ff00"/>
                </a:solidFill>
                <a:latin typeface="Arial Narrow"/>
                <a:ea typeface="Arial"/>
              </a:rPr>
              <a:t>Fosfopanteteína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 de la </a:t>
            </a:r>
            <a:r>
              <a:rPr b="0" lang="es-ES" sz="2800" spc="-1" strike="noStrike">
                <a:solidFill>
                  <a:srgbClr val="ffff00"/>
                </a:solidFill>
                <a:latin typeface="Arial Narrow"/>
                <a:ea typeface="Arial"/>
              </a:rPr>
              <a:t>Proteína Transportadora de Acilos (ACP)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por acción de la </a:t>
            </a:r>
            <a:r>
              <a:rPr b="0" lang="es-ES" sz="2800" spc="-1" strike="noStrike">
                <a:solidFill>
                  <a:srgbClr val="ff3300"/>
                </a:solidFill>
                <a:latin typeface="Arial Narrow"/>
                <a:ea typeface="Arial"/>
              </a:rPr>
              <a:t>malonil transferasa (MT)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1" name="Picture 8" descr=""/>
          <p:cNvPicPr/>
          <p:nvPr/>
        </p:nvPicPr>
        <p:blipFill>
          <a:blip r:embed="rId1"/>
          <a:stretch/>
        </p:blipFill>
        <p:spPr>
          <a:xfrm>
            <a:off x="3738600" y="944640"/>
            <a:ext cx="470196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6E23-103E-4C48-856B-3D3A800D9269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-360" y="252000"/>
            <a:ext cx="891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3)Condensación de acetilo con malonilo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4" name="Text Box 6"/>
          <p:cNvSpPr/>
          <p:nvPr/>
        </p:nvSpPr>
        <p:spPr>
          <a:xfrm>
            <a:off x="468360" y="2097000"/>
            <a:ext cx="39211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El carboxilo libre del malonilo se separa como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Se produce la unión de acetilo y malonilo catalizada por la </a:t>
            </a:r>
            <a:r>
              <a:rPr b="0" lang="es-ES" sz="2400" spc="-1" strike="noStrike">
                <a:solidFill>
                  <a:srgbClr val="ff3300"/>
                </a:solidFill>
                <a:latin typeface="Arial Narrow"/>
                <a:ea typeface="Arial"/>
              </a:rPr>
              <a:t>enzima condensante (KS) </a:t>
            </a: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para formar ceto-acil A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Se libera el acetilo de la enzima condens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5" name="Picture 8" descr=""/>
          <p:cNvPicPr/>
          <p:nvPr/>
        </p:nvPicPr>
        <p:blipFill>
          <a:blip r:embed="rId1"/>
          <a:stretch/>
        </p:blipFill>
        <p:spPr>
          <a:xfrm>
            <a:off x="4716360" y="1268280"/>
            <a:ext cx="38116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EAE7-0CCA-4AA8-9B37-B8E63A5D690D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ff00"/>
                </a:solidFill>
                <a:latin typeface="Arial Narrow"/>
              </a:rPr>
              <a:t>4) Primera reducción (reducción del grupo ceto)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8" name="Text Box 6"/>
          <p:cNvSpPr/>
          <p:nvPr/>
        </p:nvSpPr>
        <p:spPr>
          <a:xfrm>
            <a:off x="468360" y="2529000"/>
            <a:ext cx="24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El ceto-acil ACP formado se reduce a hidroxi-acil ACP por acción de la </a:t>
            </a:r>
            <a:r>
              <a:rPr b="1" lang="es-ES" sz="2400" spc="-1" strike="noStrike">
                <a:solidFill>
                  <a:srgbClr val="ff3300"/>
                </a:solidFill>
                <a:latin typeface="Arial Narrow"/>
                <a:ea typeface="Arial"/>
              </a:rPr>
              <a:t>ceto-acil reductasa (KR)</a:t>
            </a: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9" name="Picture 8" descr=""/>
          <p:cNvPicPr/>
          <p:nvPr/>
        </p:nvPicPr>
        <p:blipFill>
          <a:blip r:embed="rId1"/>
          <a:stretch/>
        </p:blipFill>
        <p:spPr>
          <a:xfrm>
            <a:off x="2879640" y="1736640"/>
            <a:ext cx="62643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096240" cy="1143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 Narrow"/>
              </a:rPr>
              <a:t>Funciones de los lípid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425080" cy="4465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mponentes de membra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Fuente de reserva energ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Reguladores Biológ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igmentos (retinol, carot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factores (vitamina 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etergentes (ácidos biliar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Transportadores (dolico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Hormonas (derivados de la vitamina D, hormonas sexua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Mensajeros celulares (eicosanoides, derivados de fosfatidil inosito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ncladores de proteí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697F-DF6C-4167-A330-4F3A9F2F78CD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942920" y="361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5)Deshidratación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503280" y="202392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7"/>
          <p:cNvSpPr/>
          <p:nvPr/>
        </p:nvSpPr>
        <p:spPr>
          <a:xfrm>
            <a:off x="216000" y="2492280"/>
            <a:ext cx="28796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Se pierde una molécula de agua, reacción catalizada por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1" lang="es-ES" sz="2400" spc="-1" strike="noStrike">
                <a:solidFill>
                  <a:srgbClr val="ff3300"/>
                </a:solidFill>
                <a:latin typeface="Arial Narrow"/>
                <a:ea typeface="Arial"/>
              </a:rPr>
              <a:t>hidroxi acil deshidratasa (H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4" name="Picture 9" descr=""/>
          <p:cNvPicPr/>
          <p:nvPr/>
        </p:nvPicPr>
        <p:blipFill>
          <a:blip r:embed="rId1"/>
          <a:stretch/>
        </p:blipFill>
        <p:spPr>
          <a:xfrm>
            <a:off x="2808360" y="1704960"/>
            <a:ext cx="61563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D3B9-94A8-4ECA-8A47-827F01EC700D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54080" y="-360"/>
            <a:ext cx="89899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Arial Narrow"/>
              </a:rPr>
              <a:t>6)Segunda reducción</a:t>
            </a:r>
            <a:br>
              <a:rPr sz="3600"/>
            </a:br>
            <a:r>
              <a:rPr b="1" lang="es-ES" sz="2400" spc="-1" strike="noStrike">
                <a:solidFill>
                  <a:srgbClr val="00ff00"/>
                </a:solidFill>
                <a:latin typeface="Arial Narrow"/>
              </a:rPr>
              <a:t>(Saturación del enlace C-C)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7" name="Text Box 6"/>
          <p:cNvSpPr/>
          <p:nvPr/>
        </p:nvSpPr>
        <p:spPr>
          <a:xfrm>
            <a:off x="576360" y="3033720"/>
            <a:ext cx="3887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compuesto insaturado es hidrogenado por acción de 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enoil reductasa (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8" name="Picture 8" descr=""/>
          <p:cNvPicPr/>
          <p:nvPr/>
        </p:nvPicPr>
        <p:blipFill>
          <a:blip r:embed="rId1"/>
          <a:stretch/>
        </p:blipFill>
        <p:spPr>
          <a:xfrm>
            <a:off x="5076720" y="762120"/>
            <a:ext cx="32482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D8BB-B0CD-4313-A98A-F300AF933E07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095640" y="225000"/>
            <a:ext cx="577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00"/>
                </a:solidFill>
                <a:latin typeface="Arial Narrow"/>
              </a:rPr>
              <a:t>Transloca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1" name="Text Box 7"/>
          <p:cNvSpPr/>
          <p:nvPr/>
        </p:nvSpPr>
        <p:spPr>
          <a:xfrm>
            <a:off x="1440" y="189000"/>
            <a:ext cx="3418200" cy="63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 Narrow"/>
                <a:ea typeface="Arial"/>
              </a:rPr>
              <a:t>La cadena en elongación unida al grupo fosfopanteteína de la ACP es translocada al residuo de cisteína de la enzima condensante (K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El grupo fosfopanteteína queda libre para la unión a malonilo comenzando un nuevo cic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 Narrow"/>
                <a:ea typeface="Arial"/>
              </a:rPr>
              <a:t>El ciclo se repite hasta llegar a AG de 16 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ffcc"/>
                </a:solidFill>
                <a:latin typeface="Arial Narrow"/>
                <a:ea typeface="Arial"/>
              </a:rPr>
              <a:t>Los H necesarios para las reducciones provienen de </a:t>
            </a:r>
            <a:r>
              <a:rPr b="1" lang="es-ES" sz="2000" spc="-1" strike="noStrike" u="sng">
                <a:solidFill>
                  <a:srgbClr val="99ffcc"/>
                </a:solidFill>
                <a:uFillTx/>
                <a:latin typeface="Arial Narrow"/>
                <a:ea typeface="Arial"/>
              </a:rPr>
              <a:t>NADPH que se obtiene en la vía de las pentosas y  en menor cantidad por la enzima málica lanzadera de citra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ffcc"/>
                </a:solidFill>
                <a:latin typeface="Arial Narrow"/>
                <a:ea typeface="Arial"/>
              </a:rPr>
              <a:t>(transporte de acetilos</a:t>
            </a:r>
            <a:r>
              <a:rPr b="1" lang="es-E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2" name="Picture 9" descr=""/>
          <p:cNvPicPr/>
          <p:nvPr/>
        </p:nvPicPr>
        <p:blipFill>
          <a:blip r:embed="rId1"/>
          <a:stretch/>
        </p:blipFill>
        <p:spPr>
          <a:xfrm>
            <a:off x="3348000" y="1665360"/>
            <a:ext cx="557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4F10-5984-4CD6-855C-400501782808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90080" y="361440"/>
            <a:ext cx="8185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00ff00"/>
                </a:solidFill>
                <a:uFillTx/>
                <a:latin typeface="Arial Narrow"/>
              </a:rPr>
              <a:t>RESUMEN</a:t>
            </a: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: </a:t>
            </a:r>
            <a:br>
              <a:rPr sz="4000"/>
            </a:b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Pasos de la biosíntesis de Ac. Grasos.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95" name="Picture 6" descr=""/>
          <p:cNvPicPr/>
          <p:nvPr/>
        </p:nvPicPr>
        <p:blipFill>
          <a:blip r:embed="rId1"/>
          <a:stretch/>
        </p:blipFill>
        <p:spPr>
          <a:xfrm>
            <a:off x="539640" y="1765440"/>
            <a:ext cx="8375760" cy="4611600"/>
          </a:xfrm>
          <a:prstGeom prst="rect">
            <a:avLst/>
          </a:prstGeom>
          <a:ln w="0">
            <a:noFill/>
          </a:ln>
        </p:spPr>
      </p:pic>
      <p:sp>
        <p:nvSpPr>
          <p:cNvPr id="996" name="1 CuadroTexto"/>
          <p:cNvSpPr/>
          <p:nvPr/>
        </p:nvSpPr>
        <p:spPr>
          <a:xfrm>
            <a:off x="539640" y="5408640"/>
            <a:ext cx="54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7 ciclos de condensación y reducción producen el palmitato saturado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,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Actúa la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oesterasa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y libera el 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Elipse 19"/>
          <p:cNvSpPr/>
          <p:nvPr/>
        </p:nvSpPr>
        <p:spPr>
          <a:xfrm>
            <a:off x="3124080" y="2743200"/>
            <a:ext cx="1067040" cy="12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Arial Narrow"/>
              </a:rPr>
              <a:t>Balance de la Biosíntesis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9" name="Cuadro de texto 15"/>
          <p:cNvSpPr/>
          <p:nvPr/>
        </p:nvSpPr>
        <p:spPr>
          <a:xfrm>
            <a:off x="762120" y="32004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8 Acetil-CoA  +  7 ATP  +  14 NADPH   +  14  H</a:t>
            </a:r>
            <a:r>
              <a:rPr b="1" lang="es-E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Cuadro de texto 16"/>
          <p:cNvSpPr/>
          <p:nvPr/>
        </p:nvSpPr>
        <p:spPr>
          <a:xfrm>
            <a:off x="152280" y="4495680"/>
            <a:ext cx="883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lmitato +8 CoA-SH +  7 ADP + 7 Pi +  14 NADP</a:t>
            </a:r>
            <a:r>
              <a:rPr b="1" lang="es-E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  +  6  H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Línea 20"/>
          <p:cNvSpPr/>
          <p:nvPr/>
        </p:nvSpPr>
        <p:spPr>
          <a:xfrm flipV="1">
            <a:off x="4343400" y="2438280"/>
            <a:ext cx="1371600" cy="457200"/>
          </a:xfrm>
          <a:prstGeom prst="line">
            <a:avLst/>
          </a:prstGeom>
          <a:ln w="22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Elipse 21"/>
          <p:cNvSpPr/>
          <p:nvPr/>
        </p:nvSpPr>
        <p:spPr>
          <a:xfrm>
            <a:off x="5638680" y="1219320"/>
            <a:ext cx="3110040" cy="1752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Biosíntesis de malon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Línea 22"/>
          <p:cNvSpPr/>
          <p:nvPr/>
        </p:nvSpPr>
        <p:spPr>
          <a:xfrm>
            <a:off x="4572000" y="37893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1 CuadroTexto"/>
          <p:cNvSpPr/>
          <p:nvPr/>
        </p:nvSpPr>
        <p:spPr>
          <a:xfrm>
            <a:off x="6063840" y="153180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Lanzadera de citr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Cuadro de texto 4"/>
          <p:cNvSpPr/>
          <p:nvPr/>
        </p:nvSpPr>
        <p:spPr>
          <a:xfrm>
            <a:off x="2556000" y="2060640"/>
            <a:ext cx="3744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losté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Transcripción génic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Rectángulo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Arial"/>
                <a:ea typeface="Arial"/>
              </a:rPr>
              <a:t>REGULACION DE LA BIOSINTESIS DE ACIDOS GRAS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Cuadro de texto 6"/>
          <p:cNvSpPr/>
          <p:nvPr/>
        </p:nvSpPr>
        <p:spPr>
          <a:xfrm>
            <a:off x="324000" y="3357720"/>
            <a:ext cx="2232000" cy="1169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ff"/>
                </a:solidFill>
                <a:latin typeface="Arial"/>
                <a:ea typeface="Arial"/>
              </a:rPr>
              <a:t>Acetil-Co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ff"/>
                </a:solidFill>
                <a:latin typeface="Arial"/>
                <a:ea typeface="Arial"/>
              </a:rPr>
              <a:t>carboxil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Autoforma 7"/>
          <p:cNvSpPr/>
          <p:nvPr/>
        </p:nvSpPr>
        <p:spPr>
          <a:xfrm>
            <a:off x="4429080" y="1700280"/>
            <a:ext cx="358920" cy="1657440"/>
          </a:xfrm>
          <a:custGeom>
            <a:avLst/>
            <a:gdLst>
              <a:gd name="textAreaLeft" fmla="*/ 229320 w 358920"/>
              <a:gd name="textAreaRight" fmla="*/ 359280 w 35892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Autoforma 8"/>
          <p:cNvSpPr/>
          <p:nvPr/>
        </p:nvSpPr>
        <p:spPr>
          <a:xfrm>
            <a:off x="4284720" y="1484280"/>
            <a:ext cx="431640" cy="1727280"/>
          </a:xfrm>
          <a:custGeom>
            <a:avLst/>
            <a:gdLst>
              <a:gd name="textAreaLeft" fmla="*/ 275760 w 431640"/>
              <a:gd name="textAreaRight" fmla="*/ 432000 w 43164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Elipse 9"/>
          <p:cNvSpPr/>
          <p:nvPr/>
        </p:nvSpPr>
        <p:spPr>
          <a:xfrm>
            <a:off x="4788000" y="17002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Elipse 10"/>
          <p:cNvSpPr/>
          <p:nvPr/>
        </p:nvSpPr>
        <p:spPr>
          <a:xfrm>
            <a:off x="4859280" y="2637000"/>
            <a:ext cx="504720" cy="43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Autoforma 11"/>
          <p:cNvSpPr/>
          <p:nvPr/>
        </p:nvSpPr>
        <p:spPr>
          <a:xfrm>
            <a:off x="4356000" y="3573360"/>
            <a:ext cx="432000" cy="1727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Elipse 12"/>
          <p:cNvSpPr/>
          <p:nvPr/>
        </p:nvSpPr>
        <p:spPr>
          <a:xfrm>
            <a:off x="4859280" y="378936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Elipse 13"/>
          <p:cNvSpPr/>
          <p:nvPr/>
        </p:nvSpPr>
        <p:spPr>
          <a:xfrm>
            <a:off x="4930920" y="47260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Cuadro de texto 14"/>
          <p:cNvSpPr/>
          <p:nvPr/>
        </p:nvSpPr>
        <p:spPr>
          <a:xfrm>
            <a:off x="5435640" y="1773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itr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Cuadro de texto 15"/>
          <p:cNvSpPr/>
          <p:nvPr/>
        </p:nvSpPr>
        <p:spPr>
          <a:xfrm>
            <a:off x="5580000" y="2708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almit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Cuadro de texto 16"/>
          <p:cNvSpPr/>
          <p:nvPr/>
        </p:nvSpPr>
        <p:spPr>
          <a:xfrm>
            <a:off x="5580000" y="38606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nsu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Cuadro de texto 17"/>
          <p:cNvSpPr/>
          <p:nvPr/>
        </p:nvSpPr>
        <p:spPr>
          <a:xfrm>
            <a:off x="5580000" y="486900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Glucagón, Adrena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Cuadro de texto 18"/>
          <p:cNvSpPr/>
          <p:nvPr/>
        </p:nvSpPr>
        <p:spPr>
          <a:xfrm>
            <a:off x="6732720" y="5877000"/>
            <a:ext cx="208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.G. poliinsatur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Elipse 19"/>
          <p:cNvSpPr/>
          <p:nvPr/>
        </p:nvSpPr>
        <p:spPr>
          <a:xfrm>
            <a:off x="6083280" y="59482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A8AD-DE09-4A36-84E7-0AD6E7A040D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2 Rectángulo"/>
          <p:cNvSpPr/>
          <p:nvPr/>
        </p:nvSpPr>
        <p:spPr>
          <a:xfrm>
            <a:off x="179280" y="549360"/>
            <a:ext cx="8713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La regulación hormonal produce un </a:t>
            </a:r>
            <a:r>
              <a:rPr b="0" lang="es-AR" sz="2000" spc="-1" strike="noStrike" u="sng">
                <a:solidFill>
                  <a:srgbClr val="ffc000"/>
                </a:solidFill>
                <a:uFillTx/>
                <a:latin typeface="Arial Rounded MT Bold"/>
              </a:rPr>
              <a:t>efecto inmediato</a:t>
            </a: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, de corto tiempo, a través de un mecanismo de fosforilación ó desfosforilación de la enzim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La dieta actúa a nivel de la síntesis de la proteína enzimática por lo que el </a:t>
            </a:r>
            <a:r>
              <a:rPr b="0" lang="es-AR" sz="2000" spc="-1" strike="noStrike" u="sng">
                <a:solidFill>
                  <a:srgbClr val="ffc000"/>
                </a:solidFill>
                <a:uFillTx/>
                <a:latin typeface="Arial Rounded MT Bold"/>
              </a:rPr>
              <a:t>efecto es tardío ó mediato</a:t>
            </a: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Así por ejempl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1a1a"/>
                </a:solidFill>
                <a:latin typeface="Arial Rounded MT Bold"/>
              </a:rPr>
              <a:t>a)  una dieta rica en hidratos de carbono y/o proteínas, supera las necesidades energéticas de la célula, en consecuencia el acetil CoA que se produce en la degradación de dichos compuestos se utiliza para la síntesis de AG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b) una dieta pobre en grasas no aporta la cantidad de lípidos suficientes para las distintas funciones celulares, en consecuencia se favorece la síntesis de ácidos gras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ángulo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Arial"/>
                <a:ea typeface="Arial"/>
              </a:rPr>
              <a:t>ESQUEMA DE LA REGULACION DE LA BIOSINT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Cuadro de texto 5"/>
          <p:cNvSpPr/>
          <p:nvPr/>
        </p:nvSpPr>
        <p:spPr>
          <a:xfrm>
            <a:off x="3421080" y="1700280"/>
            <a:ext cx="107964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itr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Cuadro de texto 6"/>
          <p:cNvSpPr/>
          <p:nvPr/>
        </p:nvSpPr>
        <p:spPr>
          <a:xfrm>
            <a:off x="3276720" y="316692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Cuadro de texto 7"/>
          <p:cNvSpPr/>
          <p:nvPr/>
        </p:nvSpPr>
        <p:spPr>
          <a:xfrm>
            <a:off x="3295800" y="443232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alon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Cuadro de texto 8"/>
          <p:cNvSpPr/>
          <p:nvPr/>
        </p:nvSpPr>
        <p:spPr>
          <a:xfrm>
            <a:off x="3276720" y="5902200"/>
            <a:ext cx="20160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almito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Línea 9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Línea 10"/>
          <p:cNvSpPr/>
          <p:nvPr/>
        </p:nvSpPr>
        <p:spPr>
          <a:xfrm>
            <a:off x="3995640" y="3645000"/>
            <a:ext cx="0" cy="720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Línea 11"/>
          <p:cNvSpPr/>
          <p:nvPr/>
        </p:nvSpPr>
        <p:spPr>
          <a:xfrm>
            <a:off x="4067280" y="5084640"/>
            <a:ext cx="0" cy="179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Cuadro de texto 12"/>
          <p:cNvSpPr/>
          <p:nvPr/>
        </p:nvSpPr>
        <p:spPr>
          <a:xfrm>
            <a:off x="4067280" y="2349360"/>
            <a:ext cx="16570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Citrato liasa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Cuadro de texto 13"/>
          <p:cNvSpPr/>
          <p:nvPr/>
        </p:nvSpPr>
        <p:spPr>
          <a:xfrm>
            <a:off x="4140360" y="3789360"/>
            <a:ext cx="28796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Acetil-CoA carboxilasa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Línea 14"/>
          <p:cNvSpPr/>
          <p:nvPr/>
        </p:nvSpPr>
        <p:spPr>
          <a:xfrm>
            <a:off x="4067280" y="5300640"/>
            <a:ext cx="0" cy="179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Línea 15"/>
          <p:cNvSpPr/>
          <p:nvPr/>
        </p:nvSpPr>
        <p:spPr>
          <a:xfrm>
            <a:off x="4067280" y="5554800"/>
            <a:ext cx="0" cy="179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Línea 16"/>
          <p:cNvSpPr/>
          <p:nvPr/>
        </p:nvSpPr>
        <p:spPr>
          <a:xfrm>
            <a:off x="6443640" y="4653000"/>
            <a:ext cx="0" cy="14400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Línea 17"/>
          <p:cNvSpPr/>
          <p:nvPr/>
        </p:nvSpPr>
        <p:spPr>
          <a:xfrm>
            <a:off x="5508720" y="6093000"/>
            <a:ext cx="93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Elipse 18"/>
          <p:cNvSpPr/>
          <p:nvPr/>
        </p:nvSpPr>
        <p:spPr>
          <a:xfrm>
            <a:off x="6156360" y="414972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Cuadro de texto 19"/>
          <p:cNvSpPr/>
          <p:nvPr/>
        </p:nvSpPr>
        <p:spPr>
          <a:xfrm>
            <a:off x="7415280" y="393372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Glucagón, Adrena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Línea 20"/>
          <p:cNvSpPr/>
          <p:nvPr/>
        </p:nvSpPr>
        <p:spPr>
          <a:xfrm flipH="1">
            <a:off x="6804000" y="4365720"/>
            <a:ext cx="43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Línea 21"/>
          <p:cNvSpPr/>
          <p:nvPr/>
        </p:nvSpPr>
        <p:spPr>
          <a:xfrm>
            <a:off x="5292720" y="1844640"/>
            <a:ext cx="0" cy="4320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Línea 22"/>
          <p:cNvSpPr/>
          <p:nvPr/>
        </p:nvSpPr>
        <p:spPr>
          <a:xfrm>
            <a:off x="4643280" y="1844640"/>
            <a:ext cx="64944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Elipse 23"/>
          <p:cNvSpPr/>
          <p:nvPr/>
        </p:nvSpPr>
        <p:spPr>
          <a:xfrm>
            <a:off x="5435640" y="17002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Línea 24"/>
          <p:cNvSpPr/>
          <p:nvPr/>
        </p:nvSpPr>
        <p:spPr>
          <a:xfrm>
            <a:off x="2700360" y="3933720"/>
            <a:ext cx="122400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Línea 25"/>
          <p:cNvSpPr/>
          <p:nvPr/>
        </p:nvSpPr>
        <p:spPr>
          <a:xfrm flipH="1">
            <a:off x="2700360" y="1844640"/>
            <a:ext cx="50328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Línea 26"/>
          <p:cNvSpPr/>
          <p:nvPr/>
        </p:nvSpPr>
        <p:spPr>
          <a:xfrm>
            <a:off x="2700360" y="1844640"/>
            <a:ext cx="0" cy="208908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Elipse 27"/>
          <p:cNvSpPr/>
          <p:nvPr/>
        </p:nvSpPr>
        <p:spPr>
          <a:xfrm>
            <a:off x="2124000" y="2708280"/>
            <a:ext cx="50508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Cuadro de texto 28"/>
          <p:cNvSpPr/>
          <p:nvPr/>
        </p:nvSpPr>
        <p:spPr>
          <a:xfrm>
            <a:off x="6300720" y="1700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nsu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Línea 29"/>
          <p:cNvSpPr/>
          <p:nvPr/>
        </p:nvSpPr>
        <p:spPr>
          <a:xfrm flipH="1">
            <a:off x="2123640" y="4653000"/>
            <a:ext cx="1079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Rectángulo 30"/>
          <p:cNvSpPr/>
          <p:nvPr/>
        </p:nvSpPr>
        <p:spPr>
          <a:xfrm>
            <a:off x="0" y="4730760"/>
            <a:ext cx="21099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Carnitin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cil transferasa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(Acil. CoA al interior de 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itocondria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Elipse 31"/>
          <p:cNvSpPr/>
          <p:nvPr/>
        </p:nvSpPr>
        <p:spPr>
          <a:xfrm>
            <a:off x="2484360" y="4869000"/>
            <a:ext cx="505080" cy="43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Línea 32"/>
          <p:cNvSpPr/>
          <p:nvPr/>
        </p:nvSpPr>
        <p:spPr>
          <a:xfrm>
            <a:off x="5940360" y="220500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0F6E-F9A3-4E65-9BB4-D53E7EC6B43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3" name="Picture 2" descr=""/>
          <p:cNvPicPr/>
          <p:nvPr/>
        </p:nvPicPr>
        <p:blipFill>
          <a:blip r:embed="rId1"/>
          <a:stretch/>
        </p:blipFill>
        <p:spPr>
          <a:xfrm>
            <a:off x="347760" y="260280"/>
            <a:ext cx="85453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52BC-31D4-42E9-B181-C4394DECD37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5" name="Picture 2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136000" cy="6102360"/>
          </a:xfrm>
          <a:prstGeom prst="rect">
            <a:avLst/>
          </a:prstGeom>
          <a:ln w="0">
            <a:noFill/>
          </a:ln>
        </p:spPr>
      </p:pic>
      <p:sp>
        <p:nvSpPr>
          <p:cNvPr id="1056" name="3 Conector recto"/>
          <p:cNvSpPr/>
          <p:nvPr/>
        </p:nvSpPr>
        <p:spPr>
          <a:xfrm>
            <a:off x="3276720" y="2205000"/>
            <a:ext cx="7905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4 CuadroTexto"/>
          <p:cNvSpPr/>
          <p:nvPr/>
        </p:nvSpPr>
        <p:spPr>
          <a:xfrm>
            <a:off x="6165720" y="423072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ff3300"/>
                </a:solidFill>
                <a:latin typeface="Arial"/>
                <a:ea typeface="Arial"/>
              </a:rPr>
              <a:t>deshidra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993080" cy="1152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Narrow"/>
              </a:rPr>
              <a:t>METABOLISMO DE LIPIDOS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280360" cy="446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Biosíntesis de ácidos grasos satura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Complejo multienzimático: Acido graso sinta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gulación horm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querimientos energét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4FEE-4D58-4B13-AF04-56403DA8C07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9" name="Picture 2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7848360" cy="5886720"/>
          </a:xfrm>
          <a:prstGeom prst="rect">
            <a:avLst/>
          </a:prstGeom>
          <a:ln w="0">
            <a:noFill/>
          </a:ln>
        </p:spPr>
      </p:pic>
      <p:sp>
        <p:nvSpPr>
          <p:cNvPr id="1060" name="2 CuadroTexto"/>
          <p:cNvSpPr/>
          <p:nvPr/>
        </p:nvSpPr>
        <p:spPr>
          <a:xfrm>
            <a:off x="7815960" y="3789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R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1C21-8644-488E-929B-54B4E30F2F6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2" name="Picture 3" descr=""/>
          <p:cNvPicPr/>
          <p:nvPr/>
        </p:nvPicPr>
        <p:blipFill>
          <a:blip r:embed="rId1"/>
          <a:stretch/>
        </p:blipFill>
        <p:spPr>
          <a:xfrm>
            <a:off x="1403280" y="84240"/>
            <a:ext cx="640872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BDE7-3C1D-48FC-A8EC-30D9F181227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2 Rectángulo"/>
          <p:cNvSpPr/>
          <p:nvPr/>
        </p:nvSpPr>
        <p:spPr>
          <a:xfrm>
            <a:off x="108000" y="122400"/>
            <a:ext cx="871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vegetales tienen las enzimas necesarias para producir insaturaciones desde la posición 9 del ácido graso hacia el carbono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metilo terminal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ejemplo, a partir del ácido oleico pueden sintetizar los ácidos: linoleico (18:2, 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.12) y linolénico (18:3,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9,12,15)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mamíferos no pueden sintetizarlos y por ello se consideran a los mismos,  ácidos grasos esenciales debiendo ser provistos por la diet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l ácido araquidónico (20:4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, 8, 11, 14) es parcialmente indispensable ya que el organismo puede sintetizarlo si dispone de ácido linoleic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 animales la nueva doble unión se introduce entre la ya existente, en la porción de cadena proximal  al grupo carboxi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D152-BBAC-4718-BCCE-4BAA65C367B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2 CuadroTexto"/>
          <p:cNvSpPr/>
          <p:nvPr/>
        </p:nvSpPr>
        <p:spPr>
          <a:xfrm>
            <a:off x="179280" y="0"/>
            <a:ext cx="896472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NCIONES BIOLOGICAS DE  AG POLIINSATUR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N AG ESCEN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GRAN LÍPIDOS ESTRUCTURALES EN LAS CÉLULAS 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MEMBRA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N PRECURSORES DE PROSTAGLANDINAS, TROMBOXANOS Y LEUCOTRIE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TICIPAN EN LA CONSTITUCIÓN DE LOS ÉSTERES DE COLESTEROL EN PLASMA SANGUÍN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 GENERAN ISÓMEROS TRANS EN EL PROCESO DE HIDROGENACIÓN DE ACEITES NATURALES 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L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3 Flecha arriba"/>
          <p:cNvSpPr/>
          <p:nvPr/>
        </p:nvSpPr>
        <p:spPr>
          <a:xfrm>
            <a:off x="7454880" y="5805360"/>
            <a:ext cx="285840" cy="574920"/>
          </a:xfrm>
          <a:prstGeom prst="upArrow">
            <a:avLst>
              <a:gd name="adj1" fmla="val 50000"/>
              <a:gd name="adj2" fmla="val 49818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61EC-96C5-472F-B59B-7FD74E23FDB4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0" y="174600"/>
            <a:ext cx="9144000" cy="667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uando la ingesta supera las necesidades energéticas, el exceso se almacena como reserva en forma de gra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Los restos de acetil-CoA provenientes de la </a:t>
            </a:r>
            <a:r>
              <a:rPr b="1" lang="el-GR" sz="2400" spc="-1" strike="noStrike">
                <a:solidFill>
                  <a:srgbClr val="ffff00"/>
                </a:solidFill>
                <a:latin typeface="Arial"/>
                <a:ea typeface="Arial"/>
              </a:rPr>
              <a:t>β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-oxidación y de la degradación de glucosa o de las cadenas carbonadas de algunos aac, pueden utilizarse para sintetizar nuevos A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tos se incorporan al glicerol para ser almacenados como grasa de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La síntesis de AG de hasta 16 C ocurre en el citoplasma y se conoce como SINTESIS DE NO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La elongación de AG se lleva a cabo en las membranas del REL y la de los AG preexistentes se realiza en las mitocondr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Características generales de la Biosíntesis de ácidos grasos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7" name="Cuadro de texto 3"/>
          <p:cNvSpPr/>
          <p:nvPr/>
        </p:nvSpPr>
        <p:spPr>
          <a:xfrm>
            <a:off x="407880" y="2671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La biosíntesis de AG (lipogénesis)  tiene lugar en el CITOSOL, en plantas en los CLOROPLA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Cuadro de texto 4"/>
          <p:cNvSpPr/>
          <p:nvPr/>
        </p:nvSpPr>
        <p:spPr>
          <a:xfrm>
            <a:off x="468360" y="368316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 un proceso endergónico: Utiliza  A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Cuadro de texto 5"/>
          <p:cNvSpPr/>
          <p:nvPr/>
        </p:nvSpPr>
        <p:spPr>
          <a:xfrm>
            <a:off x="4191120" y="32767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Cuadro de texto 6"/>
          <p:cNvSpPr/>
          <p:nvPr/>
        </p:nvSpPr>
        <p:spPr>
          <a:xfrm>
            <a:off x="496800" y="454644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Consume equivalentes de reducción : NAD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Cuadro de texto 7"/>
          <p:cNvSpPr/>
          <p:nvPr/>
        </p:nvSpPr>
        <p:spPr>
          <a:xfrm>
            <a:off x="407880" y="55306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 activa cuando el aporte energético es superior a las necesidades de las célu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Cuadro de texto 8"/>
          <p:cNvSpPr/>
          <p:nvPr/>
        </p:nvSpPr>
        <p:spPr>
          <a:xfrm>
            <a:off x="395280" y="177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 muy activa en hígado, tejido adiposo, glándula mam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24720" cy="63356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os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AG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 sintetizan en citosol a partir de acetil-CoA, por adición sucesiva de estos fragmentos de 2 carbonos al extremo carboxilo de la cadena en creci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l Acetil-CoA que se produce en mitocondria debe estar disponible en citos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 membrana mitocondrial interna es impermeable a acetil-Co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l citrato es el compuesto que permite disponer de Acetil-CoA en citos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7 Rectángulo"/>
          <p:cNvSpPr/>
          <p:nvPr/>
        </p:nvSpPr>
        <p:spPr>
          <a:xfrm>
            <a:off x="6093000" y="3179880"/>
            <a:ext cx="792000" cy="285480"/>
          </a:xfrm>
          <a:prstGeom prst="rect">
            <a:avLst/>
          </a:prstGeom>
          <a:solidFill>
            <a:srgbClr val="777777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6 Rectángulo"/>
          <p:cNvSpPr/>
          <p:nvPr/>
        </p:nvSpPr>
        <p:spPr>
          <a:xfrm>
            <a:off x="6156360" y="3073320"/>
            <a:ext cx="792000" cy="284400"/>
          </a:xfrm>
          <a:prstGeom prst="rect">
            <a:avLst/>
          </a:prstGeom>
          <a:solidFill>
            <a:srgbClr val="777777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6" name="Imagen 4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273800" cy="5883120"/>
          </a:xfrm>
          <a:prstGeom prst="rect">
            <a:avLst/>
          </a:prstGeom>
          <a:ln w="9360">
            <a:solidFill>
              <a:srgbClr val="ff1a1a"/>
            </a:solidFill>
            <a:miter/>
          </a:ln>
        </p:spPr>
      </p:pic>
      <p:sp>
        <p:nvSpPr>
          <p:cNvPr id="817" name="Cuadro de texto 6"/>
          <p:cNvSpPr/>
          <p:nvPr/>
        </p:nvSpPr>
        <p:spPr>
          <a:xfrm>
            <a:off x="3348000" y="2492280"/>
            <a:ext cx="90000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Citrato sin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Cuadro de texto 7"/>
          <p:cNvSpPr/>
          <p:nvPr/>
        </p:nvSpPr>
        <p:spPr>
          <a:xfrm>
            <a:off x="5508720" y="2492280"/>
            <a:ext cx="86364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Citrato li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1 Estrella de 5 puntas"/>
          <p:cNvSpPr/>
          <p:nvPr/>
        </p:nvSpPr>
        <p:spPr>
          <a:xfrm>
            <a:off x="5796000" y="4491000"/>
            <a:ext cx="863640" cy="647640"/>
          </a:xfrm>
          <a:custGeom>
            <a:avLst/>
            <a:gdLst/>
            <a:ahLst/>
            <a:rect l="l" t="t" r="r" b="b"/>
            <a:pathLst>
              <a:path w="684076" h="648072">
                <a:moveTo>
                  <a:pt x="1" y="247541"/>
                </a:moveTo>
                <a:lnTo>
                  <a:pt x="252730" y="235799"/>
                </a:lnTo>
                <a:lnTo>
                  <a:pt x="342038" y="0"/>
                </a:lnTo>
                <a:lnTo>
                  <a:pt x="431346" y="235799"/>
                </a:lnTo>
                <a:lnTo>
                  <a:pt x="684075" y="247541"/>
                </a:lnTo>
                <a:lnTo>
                  <a:pt x="486542" y="405015"/>
                </a:lnTo>
                <a:lnTo>
                  <a:pt x="553429" y="648070"/>
                </a:lnTo>
                <a:lnTo>
                  <a:pt x="342038" y="509596"/>
                </a:lnTo>
                <a:lnTo>
                  <a:pt x="130647" y="648070"/>
                </a:lnTo>
                <a:lnTo>
                  <a:pt x="197534" y="405015"/>
                </a:lnTo>
                <a:lnTo>
                  <a:pt x="1" y="247541"/>
                </a:lnTo>
                <a:close/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1 Rectángulo"/>
          <p:cNvSpPr/>
          <p:nvPr/>
        </p:nvSpPr>
        <p:spPr>
          <a:xfrm>
            <a:off x="324000" y="11592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  <a:ea typeface="Arial"/>
              </a:rPr>
              <a:t>SALIDA DE ACETILOS DE LA MITOCONDRIA AL CITOS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  <a:ea typeface="Arial"/>
              </a:rPr>
              <a:t>LANZADERA DE CITR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1" name="3 Conector recto de flecha"/>
          <p:cNvCxnSpPr/>
          <p:nvPr/>
        </p:nvCxnSpPr>
        <p:spPr>
          <a:xfrm flipH="1" flipV="1">
            <a:off x="6318000" y="5589000"/>
            <a:ext cx="342000" cy="43236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cxnSp>
        <p:nvCxnSpPr>
          <p:cNvPr id="822" name="5 Conector recto de flecha"/>
          <p:cNvCxnSpPr/>
          <p:nvPr/>
        </p:nvCxnSpPr>
        <p:spPr>
          <a:xfrm flipH="1" flipV="1">
            <a:off x="7092720" y="5229360"/>
            <a:ext cx="72000" cy="57636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823" name="1 CuadroTexto"/>
          <p:cNvSpPr/>
          <p:nvPr/>
        </p:nvSpPr>
        <p:spPr>
          <a:xfrm>
            <a:off x="2198520" y="4699080"/>
            <a:ext cx="5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Biotin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3 CuadroTexto"/>
          <p:cNvSpPr/>
          <p:nvPr/>
        </p:nvSpPr>
        <p:spPr>
          <a:xfrm>
            <a:off x="3448800" y="180324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5" name="5 Conector recto de flecha"/>
          <p:cNvCxnSpPr/>
          <p:nvPr/>
        </p:nvCxnSpPr>
        <p:spPr>
          <a:xfrm flipV="1">
            <a:off x="3924000" y="1802880"/>
            <a:ext cx="108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 Narrow"/>
              </a:rPr>
              <a:t>Relación entre el Metabolismo de los H. de C. y la Biosíntesis de Ácidos Grasos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27" name="Imagen 4" descr="fi18p22"/>
          <p:cNvPicPr/>
          <p:nvPr/>
        </p:nvPicPr>
        <p:blipFill>
          <a:blip r:embed="rId1"/>
          <a:stretch/>
        </p:blipFill>
        <p:spPr>
          <a:xfrm>
            <a:off x="1295280" y="1447920"/>
            <a:ext cx="6912000" cy="5016240"/>
          </a:xfrm>
          <a:prstGeom prst="rect">
            <a:avLst/>
          </a:prstGeom>
          <a:ln w="0">
            <a:noFill/>
          </a:ln>
        </p:spPr>
      </p:pic>
      <p:sp>
        <p:nvSpPr>
          <p:cNvPr id="828" name="Cuadro de texto 7"/>
          <p:cNvSpPr/>
          <p:nvPr/>
        </p:nvSpPr>
        <p:spPr>
          <a:xfrm>
            <a:off x="990720" y="2362320"/>
            <a:ext cx="129528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ITO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Cuadro de texto 8"/>
          <p:cNvSpPr/>
          <p:nvPr/>
        </p:nvSpPr>
        <p:spPr>
          <a:xfrm>
            <a:off x="1752480" y="1752480"/>
            <a:ext cx="160020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GLICOLI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Cuadro de texto 9"/>
          <p:cNvSpPr/>
          <p:nvPr/>
        </p:nvSpPr>
        <p:spPr>
          <a:xfrm>
            <a:off x="7086600" y="1905120"/>
            <a:ext cx="167652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Sintesis de ácidos gra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Rectángulo 10"/>
          <p:cNvSpPr/>
          <p:nvPr/>
        </p:nvSpPr>
        <p:spPr>
          <a:xfrm>
            <a:off x="3124080" y="1447920"/>
            <a:ext cx="160020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arbohidr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Rectángulo 11"/>
          <p:cNvSpPr/>
          <p:nvPr/>
        </p:nvSpPr>
        <p:spPr>
          <a:xfrm>
            <a:off x="3352680" y="2057400"/>
            <a:ext cx="12193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iruv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ángulo 12"/>
          <p:cNvSpPr/>
          <p:nvPr/>
        </p:nvSpPr>
        <p:spPr>
          <a:xfrm>
            <a:off x="3276720" y="2971800"/>
            <a:ext cx="114300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iruv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Rectángulo 13"/>
          <p:cNvSpPr/>
          <p:nvPr/>
        </p:nvSpPr>
        <p:spPr>
          <a:xfrm>
            <a:off x="1104840" y="4145040"/>
            <a:ext cx="1067040" cy="6094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uerp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etón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Cuadro de texto 14"/>
          <p:cNvSpPr/>
          <p:nvPr/>
        </p:nvSpPr>
        <p:spPr>
          <a:xfrm>
            <a:off x="2286000" y="4648320"/>
            <a:ext cx="13716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cetogéne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Cuadro de texto 15"/>
          <p:cNvSpPr/>
          <p:nvPr/>
        </p:nvSpPr>
        <p:spPr>
          <a:xfrm>
            <a:off x="4191120" y="3930480"/>
            <a:ext cx="13716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Symbol"/>
                <a:ea typeface="Symbol"/>
              </a:rPr>
              <a:t>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oxid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Cuadro de texto 16"/>
          <p:cNvSpPr/>
          <p:nvPr/>
        </p:nvSpPr>
        <p:spPr>
          <a:xfrm>
            <a:off x="1752480" y="5181480"/>
            <a:ext cx="160020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MITOCONDR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Cuadro de texto 17"/>
          <p:cNvSpPr/>
          <p:nvPr/>
        </p:nvSpPr>
        <p:spPr>
          <a:xfrm>
            <a:off x="3429000" y="4295880"/>
            <a:ext cx="157464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Cuadro de texto 18"/>
          <p:cNvSpPr/>
          <p:nvPr/>
        </p:nvSpPr>
        <p:spPr>
          <a:xfrm>
            <a:off x="6248520" y="4281480"/>
            <a:ext cx="1295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Cuadro de texto 19"/>
          <p:cNvSpPr/>
          <p:nvPr/>
        </p:nvSpPr>
        <p:spPr>
          <a:xfrm>
            <a:off x="5486400" y="4952880"/>
            <a:ext cx="9144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itra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Cuadro de texto 20"/>
          <p:cNvSpPr/>
          <p:nvPr/>
        </p:nvSpPr>
        <p:spPr>
          <a:xfrm>
            <a:off x="4343400" y="4952880"/>
            <a:ext cx="7621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Citra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Cuadro de texto 21"/>
          <p:cNvSpPr/>
          <p:nvPr/>
        </p:nvSpPr>
        <p:spPr>
          <a:xfrm>
            <a:off x="7010280" y="5334120"/>
            <a:ext cx="14479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Oxalaceta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Cuadro de texto 23"/>
          <p:cNvSpPr/>
          <p:nvPr/>
        </p:nvSpPr>
        <p:spPr>
          <a:xfrm>
            <a:off x="6173640" y="1236600"/>
            <a:ext cx="11430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Ácidos gra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ángulo 24"/>
          <p:cNvSpPr/>
          <p:nvPr/>
        </p:nvSpPr>
        <p:spPr>
          <a:xfrm>
            <a:off x="5791320" y="2133720"/>
            <a:ext cx="106668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il-Co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Rectángulo 25"/>
          <p:cNvSpPr/>
          <p:nvPr/>
        </p:nvSpPr>
        <p:spPr>
          <a:xfrm>
            <a:off x="5486400" y="3276720"/>
            <a:ext cx="13716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il- Carnit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ángulo 26"/>
          <p:cNvSpPr/>
          <p:nvPr/>
        </p:nvSpPr>
        <p:spPr>
          <a:xfrm>
            <a:off x="4267080" y="3352680"/>
            <a:ext cx="11430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il-Co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74872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Procedencia de Acetil CoA, Enzimas y Poder reductor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8531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TR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ITRATO LIA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cetil-CoA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CIDO GRASO SINT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AD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Autoforma 12"/>
          <p:cNvSpPr/>
          <p:nvPr/>
        </p:nvSpPr>
        <p:spPr>
          <a:xfrm>
            <a:off x="2268360" y="5738760"/>
            <a:ext cx="358920" cy="111924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19240"/>
              <a:gd name="textAreaBottom" fmla="*/ 1090080 h 11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Cuadro de texto 13"/>
          <p:cNvSpPr/>
          <p:nvPr/>
        </p:nvSpPr>
        <p:spPr>
          <a:xfrm>
            <a:off x="2700360" y="5734080"/>
            <a:ext cx="30481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ía de las Pento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Cuadro de texto 14"/>
          <p:cNvSpPr/>
          <p:nvPr/>
        </p:nvSpPr>
        <p:spPr>
          <a:xfrm>
            <a:off x="2781360" y="6296040"/>
            <a:ext cx="272736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nzima má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Línea 15"/>
          <p:cNvSpPr/>
          <p:nvPr/>
        </p:nvSpPr>
        <p:spPr>
          <a:xfrm>
            <a:off x="4859280" y="53737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Elipse 16"/>
          <p:cNvSpPr/>
          <p:nvPr/>
        </p:nvSpPr>
        <p:spPr>
          <a:xfrm>
            <a:off x="5940360" y="4869000"/>
            <a:ext cx="2376720" cy="1224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mplej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ultienzimá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4" name="Grupo 31"/>
          <p:cNvGrpSpPr/>
          <p:nvPr/>
        </p:nvGrpSpPr>
        <p:grpSpPr>
          <a:xfrm>
            <a:off x="3122640" y="1052640"/>
            <a:ext cx="6021360" cy="2604960"/>
            <a:chOff x="3122640" y="1052640"/>
            <a:chExt cx="6021360" cy="2604960"/>
          </a:xfrm>
        </p:grpSpPr>
        <p:grpSp>
          <p:nvGrpSpPr>
            <p:cNvPr id="855" name="Grupo 29"/>
            <p:cNvGrpSpPr/>
            <p:nvPr/>
          </p:nvGrpSpPr>
          <p:grpSpPr>
            <a:xfrm>
              <a:off x="3122640" y="1052640"/>
              <a:ext cx="6021360" cy="1082160"/>
              <a:chOff x="3122640" y="1052640"/>
              <a:chExt cx="6021360" cy="1082160"/>
            </a:xfrm>
          </p:grpSpPr>
          <p:grpSp>
            <p:nvGrpSpPr>
              <p:cNvPr id="856" name="Grupo 26"/>
              <p:cNvGrpSpPr/>
              <p:nvPr/>
            </p:nvGrpSpPr>
            <p:grpSpPr>
              <a:xfrm>
                <a:off x="3122640" y="1690560"/>
                <a:ext cx="6021360" cy="444240"/>
                <a:chOff x="3122640" y="1690560"/>
                <a:chExt cx="6021360" cy="444240"/>
              </a:xfrm>
            </p:grpSpPr>
            <p:sp>
              <p:nvSpPr>
                <p:cNvPr id="857" name="Autoforma 4"/>
                <p:cNvSpPr/>
                <p:nvPr/>
              </p:nvSpPr>
              <p:spPr>
                <a:xfrm>
                  <a:off x="3122640" y="1766520"/>
                  <a:ext cx="990720" cy="304920"/>
                </a:xfrm>
                <a:custGeom>
                  <a:avLst/>
                  <a:gdLst>
                    <a:gd name="textAreaLeft" fmla="*/ 173160 w 990720"/>
                    <a:gd name="textAreaRight" fmla="*/ 718200 w 990720"/>
                    <a:gd name="textAreaTop" fmla="*/ 40680 h 304920"/>
                    <a:gd name="textAreaBottom" fmla="*/ 26424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Cuadro de texto 5"/>
                <p:cNvSpPr/>
                <p:nvPr/>
              </p:nvSpPr>
              <p:spPr>
                <a:xfrm>
                  <a:off x="441828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ETIL-Co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Cuadro de texto 6"/>
                <p:cNvSpPr/>
                <p:nvPr/>
              </p:nvSpPr>
              <p:spPr>
                <a:xfrm>
                  <a:off x="739152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LONIL-Co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Autoforma 7"/>
                <p:cNvSpPr/>
                <p:nvPr/>
              </p:nvSpPr>
              <p:spPr>
                <a:xfrm>
                  <a:off x="6475680" y="1690560"/>
                  <a:ext cx="838080" cy="304560"/>
                </a:xfrm>
                <a:custGeom>
                  <a:avLst/>
                  <a:gdLst>
                    <a:gd name="textAreaLeft" fmla="*/ 146520 w 838080"/>
                    <a:gd name="textAreaRight" fmla="*/ 607680 w 838080"/>
                    <a:gd name="textAreaTop" fmla="*/ 40680 h 304560"/>
                    <a:gd name="textAreaBottom" fmla="*/ 2638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Elipse 8"/>
              <p:cNvSpPr/>
              <p:nvPr/>
            </p:nvSpPr>
            <p:spPr>
              <a:xfrm>
                <a:off x="6372360" y="1052640"/>
                <a:ext cx="914400" cy="60948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T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2" name="Autoforma 10"/>
            <p:cNvSpPr/>
            <p:nvPr/>
          </p:nvSpPr>
          <p:spPr>
            <a:xfrm rot="5278800">
              <a:off x="7619760" y="2512440"/>
              <a:ext cx="1066320" cy="304920"/>
            </a:xfrm>
            <a:custGeom>
              <a:avLst/>
              <a:gdLst>
                <a:gd name="textAreaLeft" fmla="*/ 166320 w 1066320"/>
                <a:gd name="textAreaRight" fmla="*/ 933120 w 106632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Cuadro de texto 11"/>
            <p:cNvSpPr/>
            <p:nvPr/>
          </p:nvSpPr>
          <p:spPr>
            <a:xfrm>
              <a:off x="7620120" y="3289320"/>
              <a:ext cx="1295280" cy="368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L-Co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ínea 17"/>
            <p:cNvSpPr/>
            <p:nvPr/>
          </p:nvSpPr>
          <p:spPr>
            <a:xfrm>
              <a:off x="6170760" y="2060640"/>
              <a:ext cx="1904760" cy="53280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5" name="Grupo 30"/>
          <p:cNvGrpSpPr/>
          <p:nvPr/>
        </p:nvGrpSpPr>
        <p:grpSpPr>
          <a:xfrm>
            <a:off x="1403280" y="2900520"/>
            <a:ext cx="5426280" cy="1058040"/>
            <a:chOff x="1403280" y="2900520"/>
            <a:chExt cx="5426280" cy="1058040"/>
          </a:xfrm>
        </p:grpSpPr>
        <p:sp>
          <p:nvSpPr>
            <p:cNvPr id="866" name="Cuadro de texto 19"/>
            <p:cNvSpPr/>
            <p:nvPr/>
          </p:nvSpPr>
          <p:spPr>
            <a:xfrm>
              <a:off x="1403280" y="3260880"/>
              <a:ext cx="15843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I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Línea 20"/>
            <p:cNvSpPr/>
            <p:nvPr/>
          </p:nvSpPr>
          <p:spPr>
            <a:xfrm>
              <a:off x="3060720" y="3476520"/>
              <a:ext cx="15112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Cuadro de texto 21"/>
            <p:cNvSpPr/>
            <p:nvPr/>
          </p:nvSpPr>
          <p:spPr>
            <a:xfrm>
              <a:off x="5051520" y="2900520"/>
              <a:ext cx="17524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ETIL-Co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Cuadro de texto 22"/>
            <p:cNvSpPr/>
            <p:nvPr/>
          </p:nvSpPr>
          <p:spPr>
            <a:xfrm>
              <a:off x="5076720" y="3548160"/>
              <a:ext cx="175284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xalacetat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Cuadro de texto 23"/>
            <p:cNvSpPr/>
            <p:nvPr/>
          </p:nvSpPr>
          <p:spPr>
            <a:xfrm>
              <a:off x="5580000" y="3214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Cuadro de texto 24"/>
            <p:cNvSpPr/>
            <p:nvPr/>
          </p:nvSpPr>
          <p:spPr>
            <a:xfrm>
              <a:off x="2987640" y="3621240"/>
              <a:ext cx="187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TP      ADP + P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Autoforma 25"/>
            <p:cNvSpPr/>
            <p:nvPr/>
          </p:nvSpPr>
          <p:spPr>
            <a:xfrm>
              <a:off x="3492360" y="3548160"/>
              <a:ext cx="576360" cy="144360"/>
            </a:xfrm>
            <a:custGeom>
              <a:avLst/>
              <a:gdLst>
                <a:gd name="textAreaLeft" fmla="*/ 100800 w 576360"/>
                <a:gd name="textAreaRight" fmla="*/ 417960 w 576360"/>
                <a:gd name="textAreaTop" fmla="*/ 19080 h 144360"/>
                <a:gd name="textAreaBottom" fmla="*/ 12528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3" name="Línea 27"/>
          <p:cNvSpPr/>
          <p:nvPr/>
        </p:nvSpPr>
        <p:spPr>
          <a:xfrm>
            <a:off x="4932360" y="4581360"/>
            <a:ext cx="57636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Cuadro de texto 28"/>
          <p:cNvSpPr/>
          <p:nvPr/>
        </p:nvSpPr>
        <p:spPr>
          <a:xfrm>
            <a:off x="5508720" y="4292640"/>
            <a:ext cx="3406680" cy="4291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Síntesis de malonil-Co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2:06:53Z</dcterms:created>
  <dc:creator>Fanny</dc:creator>
  <dc:description/>
  <dc:language>en-US</dc:language>
  <cp:lastModifiedBy>Fanny Zirulnik</cp:lastModifiedBy>
  <dcterms:modified xsi:type="dcterms:W3CDTF">2017-05-03T21:13:32Z</dcterms:modified>
  <cp:revision>168</cp:revision>
  <dc:subject/>
  <dc:title>Presentación de PowerPoint</dc:title>
</cp:coreProperties>
</file>